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8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13.png" ContentType="image/png"/>
  <Override PartName="/ppt/media/image5.png" ContentType="image/png"/>
  <Override PartName="/ppt/media/image43.jpeg" ContentType="image/jpeg"/>
  <Override PartName="/ppt/media/image1.png" ContentType="image/png"/>
  <Override PartName="/ppt/media/image39.png" ContentType="image/pn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9.jpeg" ContentType="image/jpeg"/>
  <Override PartName="/ppt/media/image11.jpeg" ContentType="image/jpeg"/>
  <Override PartName="/ppt/media/image3.png" ContentType="image/png"/>
  <Override PartName="/ppt/media/image36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B3DF-C48E-4002-89D6-9990934A5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92F1-691F-4C14-8D94-3074C873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9B02-77DE-4FBD-A706-4722B1048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999E-E63D-46BB-9C8A-62FED7F9A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60B8-4E00-45D6-B1A5-76E6FBFFE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02C6-6AB5-47F5-BA2D-C3C4D65A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B8A2-3FA3-4CA5-BF73-BA93630D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938B-4AB9-47F4-9D80-1C7C6291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F648-1407-4D6C-A62D-3C2EBCBE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FAC3-FA75-4D82-99D2-7C67B107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CCC7-3217-4F2A-8602-D90E68FA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E78E-A015-405C-9E48-107D301D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4728-2B2A-421C-AB09-C745CFE4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F518-C014-46DB-8691-4D8BAFC5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B797-30BF-49E4-9D80-2210890E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4765-A209-4E5F-9F2C-C350A66A8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E46A-97FF-4138-862B-245808B85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1918-2A38-422F-B8C7-9B7CE9A9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B5EF-3544-4AB8-939A-91E40056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1803-651C-4247-989E-47C47DBB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7996-8DD3-4643-AB53-2789F786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E6C3-CBD9-4E61-9419-FF8F7818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F31D-38EF-4BD8-A7CB-3C1D3318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0335-A841-41B7-858C-8CEFD1EF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2E86-04CF-4BE2-8A0F-26F259BEF7EF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9B04-2091-4D69-8A54-8D2810A5072F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8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Times New Roman"/>
              </a:rPr>
              <a:t>Признаки </a:t>
            </a:r>
            <a:br>
              <a:rPr sz="5400"/>
            </a:br>
            <a:r>
              <a:rPr b="1" lang="ru-RU" sz="5400" spc="-1" strike="noStrike">
                <a:solidFill>
                  <a:srgbClr val="ffffcc"/>
                </a:solidFill>
                <a:latin typeface="Times New Roman"/>
              </a:rPr>
              <a:t>подлинности</a:t>
            </a:r>
            <a:br>
              <a:rPr sz="5400"/>
            </a:br>
            <a:r>
              <a:rPr b="1" lang="ru-RU" sz="5400" spc="-1" strike="noStrike">
                <a:solidFill>
                  <a:srgbClr val="ffffcc"/>
                </a:solidFill>
                <a:latin typeface="Times New Roman"/>
              </a:rPr>
              <a:t>банкнот России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50920" y="2914560"/>
            <a:ext cx="3983040" cy="296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4967280" y="2971800"/>
          <a:ext cx="4176720" cy="283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67280" y="2971800"/>
                    <a:ext cx="4176720" cy="28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2. Ныряющая металлизированная нить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– в бумагу банкнот внедрена металлизированная нить, которая видна на оборотной стороне банкнот в виде блестящих прямоугольников, образующих пунктирную линию. При рассматривании банкнот на просвет защитная нить выглядит сплошной темной полосой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979640" y="3068640"/>
            <a:ext cx="554508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84360" y="1373040"/>
            <a:ext cx="7775280" cy="45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3.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Микроузор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– купонные поля оборотной стороны банкнот запечатаны цветными многоугольниками или параллельными линиям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533680" y="2209680"/>
            <a:ext cx="4029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7772400" cy="547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4. Микротекст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– расположен на оборотной стороне банкнот на горизонтальных полосах и состоит из букв «ЦБР» и числовых номиналов банкно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332000" y="2109960"/>
            <a:ext cx="6696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4360" y="260280"/>
            <a:ext cx="7772400" cy="59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4. Цветные защитные волокна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– внедренные в бумагу,  имеют все банкноты Банка России, волокна хорошо просматриваются в ультрафиолетовом излучени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 бумаге хаотически расположены защитные волокна четырех цветов: красные, светло-зеленые, двуцветные и серые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84360" y="2637000"/>
            <a:ext cx="77040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24000" y="1916280"/>
            <a:ext cx="44416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5. Метки для людей с ослабленным зрением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– состоящее из двух точек и двух полосок, имеющие рельеф, предназначенные для определения номиналов банкнот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042920" y="2349360"/>
            <a:ext cx="59770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187280" y="620640"/>
            <a:ext cx="7128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6. Скрытое изображение букв "РР" (Кипп-эффект)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ри рассматривании банкноты под острым углом к поверхности, против источника света, на декоративной ленте становятся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идны буквы "РР". В зависимости от расположения банкноты буквы будут выглядеть светлыми на темном фоне или темными на светлом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фоне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62040" y="1196640"/>
            <a:ext cx="7772400" cy="482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Банкноты – денежные знаки,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в настоящее время один из основных видов бумажных денег. Как правило, эмитируются центральными банками. В России выпускаются по заказу ЦБ РФ и изготавливаются на ФГУП «Гознак» из высококачественной хлопковой бумаги. Химический состав краски используемый при печати банкнот является государственной тайной, более не где не используется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55640" y="189000"/>
            <a:ext cx="727236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7. Микроперфорация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– (на банкнотах 100, 500, 1000, 5000 рублей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ри рассмотрении банкноты против источника света на ней видно цифровое обозначение номинала, сформированное микроотверстиями, неосязаемые на ощупь,  которые выглядят мелкими точками. Бумага в месте расположения микроотверстий не должна восприниматься шероховатой на ощупь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4221000" cy="46054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862520" y="1052640"/>
            <a:ext cx="42814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8. Скрытые радужные полосы –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(на банкнотах всех номиналов) на лицевой стороне банкнот расположено поле, заполненное тонкими параллельными линиями. При рассмотрении банкноты на расстоянии 30-50 см перпендикулярно направлению взгляда поле выглядит однотонным. При рассматривании банкноты под острым углом на поле возникают многоцветные  (радужные) полосы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4895640" cy="4248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5435640" y="1628640"/>
            <a:ext cx="345744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10. Эмблема банка России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– при рассматривании банкнот под разными углами меняет свой цвет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62040" y="2276640"/>
            <a:ext cx="4197240" cy="3384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148360" y="2276640"/>
            <a:ext cx="39956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7772400" cy="561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11. Текст «Билет банка России»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- расположен в верхней части лицевой стороны банкнот, имеет повышенный рельеф, воспринимаемый на ощупь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900000" y="2997360"/>
            <a:ext cx="7344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62040" y="404640"/>
            <a:ext cx="7772400" cy="561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12. Вертикаль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– цветная орнаментная полоса, расположенная в различных частях банкнот (в зависимости от достоинства банкноты), видимая на просвет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13. Герб, выполненный цветопеременной краской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Герб выполнен цветопеременной краской, цвет которой меняется при рассмотрении банкноты под разными углами с малинового на золотисто-зеленый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124000" y="2276640"/>
            <a:ext cx="4464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Признаки подлинности, контролируемые на ощупь –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обладают повышенной рельефностью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Текст "Билет Банка Росси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Метка для людей с ослабленным зрением, состоящая     из 2х точек и 3х полосок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Цифровое обозначение номинала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Текст "ПЯТЬ ТЫСЯЧ РУБЛЕЙ"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Тонкие рельефные штрих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Банкнота номиналом 10 рублей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2349360"/>
            <a:ext cx="4427640" cy="230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4572000" y="2349360"/>
          <a:ext cx="4572000" cy="233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349360"/>
                    <a:ext cx="4572000" cy="23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Признаки подлинности, контролируемые при изменении угла зрени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Эффект изображения на защитной нит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крытое изображение букв «РР» (Кипп-эффект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крытый многоцветный образ (число «500»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крытый многоцветный образ при воздействии УФ свет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Признаки подлинности контролируемые на просве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омбинированный водяной знак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Защитная нить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Микроперфорац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Признаки подлинности, контролируемые с использованием х8-х10 лупы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Микроузор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Изображение, образованное мелкими графическими элементам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Микротекст позитивный (повторяющиеся число 50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Микротекст – переход из негативного в позитивный (повторяющийся текст «ЦБРФ500»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Микротекст на границе декоративной ленты (повторяющиеся число 500, разделенное точкой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Защитные волокна, внедренные в бумагу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Бескрасочное тиснени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11280" y="907920"/>
            <a:ext cx="7772400" cy="504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Платежными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являются все  банкноты Банка России, не вызывающие сомнения в их подлинност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Обязаны принимать банкноты, имеющие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роколы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надрывы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отертости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ятна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надписи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Незначительные повреждения, в виде оторванных углов и краев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Торговые организации банкноты с повреждениями отсортировывают их из выручки и сдают в Банк в разряд ветхих для обмена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Обмену подлежат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банкноты, не вызывающие сомнения в подлинности и имеющие следующие повреждения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брак печати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разорванные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клеенные, если отдельные части принадлежат одной и той же банкноты залитые красящими веществами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Обожженные прожженные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неты Росси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тандартные монеты от 1 копейки до 5 рублей образца 1997 года введены в обращение 1 января 1998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 2002 года изменился тип аверса монет крупных номиналов - 1, 2 и 5 рублей. В 2006 году изменился металл номиналов 10 и 50 копеек - с немагнитного на магнитный (в 2006 году чеканили оба типа монет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 2009 году изменился металл номиналов 1, 2 и 5 рублей - с немагнитного на магнитный (в 2009 году чеканили оба типа монет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10-рублевые монеты введены в обращение 1 октября 2009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                        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Один рубль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826920" y="2637000"/>
            <a:ext cx="3633840" cy="3600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5219640" y="2637000"/>
            <a:ext cx="36734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                 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Два рубля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11280" y="2421000"/>
            <a:ext cx="3456000" cy="3456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572000" y="2421000"/>
            <a:ext cx="3672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                       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Пять рублей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971640" y="2133720"/>
            <a:ext cx="3600360" cy="3456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148360" y="2133720"/>
            <a:ext cx="3600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Десять рублей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971640" y="2060640"/>
            <a:ext cx="3671640" cy="3960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4932360" y="2060640"/>
            <a:ext cx="37432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Банкнота номиналом 50 рублей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                       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Оценка моне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амая дорогая монета в мире была продана за 7,6 млн. долларов. В 15,5 млн. рублей оценили «Анну с цепью» — пробный рубль 1730 года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Можно определить факторы, влияющие на стоимость монеты: это редкость и сохранность. Чем редкостней монета, тем выше ее стоимость. Монета в хорошем состоянии стоит дороже, чем плохо сохраненная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фактор оценки монет – степень сохранности. Изношенный медный кружок со стертым рисунком, каким бы древним он ни был, не представляет никакого интереса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Юбилейные монеты Российской федераци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Юбилейные монеты России представлены несколькими номиналами. Это 1,2 и 10 рублей. однорублевые юбилейные монеты приурочены к знаменательным датам. Пока их две: 200 лет со дня рождения Пушкина и 10 лет со дня образования СНГ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716360" y="2060640"/>
            <a:ext cx="37432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057040" y="33336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Основная масса юбилейных монет – десятирублевые биметаллические монеты. В основном они выпускаются сериями, но есть и те, которые приурочены к датам: юбилей полета в космос (Гагарин), 60 лет победы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116000" y="2708280"/>
            <a:ext cx="3384720" cy="37450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4932360" y="2708280"/>
            <a:ext cx="34560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2952720" cy="3097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5292720" y="260280"/>
            <a:ext cx="3166920" cy="3024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3780000" y="3716280"/>
            <a:ext cx="316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Рассказывая о признаках подлинности банкнот,  предупреждаю, что преступления, связанные с фальшивомонетничеством, относятся к категории тяжких преступлений и караются лишением свободы на срок до 15 лет. Поэтому, если у вас возникло подозрение, что к вам попала подделка, не пытайтесь ее пустить в оборот, а проведите проверку подлинности банкноты через детектор подлинности банкнот или осуществите сверку признаков подлинности купюры своими силам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Банкнота номиналом 100 рублей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24000" y="2924280"/>
            <a:ext cx="83516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Банкнота номиналом 500 рублей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50920" y="2492280"/>
            <a:ext cx="864216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Банкнота номиналом 1000 рублей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24000" y="2276640"/>
            <a:ext cx="8820000" cy="23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Банкнота номиналом 5000 рублей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2276640"/>
            <a:ext cx="914400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ЭЛЕМЕНТЫ ЗАЩИТЫ БАНКНОТ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1. Водяные знаки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–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расположены на купонных полях банкнот и  хорошо видны на просвет: с одного края -цифровое обозначение, с другого – повторяющиеся фрагменты рисунка лицевой и оборотной стороны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771640" y="3247920"/>
            <a:ext cx="43214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3-26T15:12:30Z</dcterms:modified>
  <cp:revision>8</cp:revision>
  <dc:subject/>
  <dc:title>PowerPoint Presentation</dc:title>
</cp:coreProperties>
</file>