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EE355-E3CF-4D5E-AD22-245E28CCD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623BF-345E-438E-A7A3-D3DB6B2B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33D67-2716-4655-8777-34C3CBD75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6C4EB-BBE8-499A-8437-D879C5C1A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63C90-B502-424C-9073-E850F2C0A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2AD25-DDF6-4475-9008-B4056BB0B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3759F-D767-495B-80D3-F7525672B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AD747-12F2-4751-BBEF-84C204528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64BCD-DF87-4973-951E-5789ACFDF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29C7D-C9B4-4F01-AE2D-9D3DF7A00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86F8D-5139-4603-B195-0B4E3B0E4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503C0-A0B2-4610-BA4A-066597ADC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5E836-E108-4B62-B7E3-A5E62525E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4A877-C059-49C8-8EBF-C042C1831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DAC3B-A8D3-4DC9-8A92-D1B6FDCB1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49B12D-12C8-4312-A231-9C237205E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7B832-F06B-4F4D-A244-2CB9A03FA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18B937-FE9A-4B2D-8818-BAE9FA1BF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6D6C1-E693-470F-9AEC-CD1DE20ED5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63B99-013F-4649-8934-81784314D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1F63FD-61F7-4289-8A71-70C399603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4EAC9C-FA44-4092-8C43-C196DE43FA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FF9F4-7F64-4307-AA60-CC9311693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782E3-726E-4E27-9382-C45B872AE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3EBEB-6606-41B0-97D2-2DA7DEB5B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C2BEF-D3E0-4A10-A166-16B7D2C1D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17512-2AD8-423D-B6EA-194A9B7A6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0BE96-7E4A-4F64-87B2-190A1EC96B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06110-D6DC-4C02-9379-A8BC281974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69D4EA-584C-44F7-8F19-EEF84740D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638ADC-0447-408E-A1F2-48EA766BA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23761-8B34-4A8E-840C-EE4CF5ABA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A6261-F5E2-4C82-9007-5E7CBA41C0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BCD8B-CC72-4DBA-9448-4D5D53B22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22144-C7A0-4143-901C-6D2EEAAFE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E314B-4A86-423B-B4EA-4835D691E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E3008-358B-48FA-92AF-07CFBDB86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EBCA4-83CA-490E-A941-13C97782D7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49959-F8E4-459C-99F5-449FB987D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80C18-4CB9-430D-9B89-B32D6AD7CC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DEA3B1-3C15-4078-82E5-DBA27A23B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D829D1-BDB1-414C-92A8-22D4C92B7E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9C9FA-E2DC-45B9-91A7-60AFAA171E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BFD30-95D0-4B5B-8751-2BC70C2EEE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B521B-9B95-49CD-B6A0-CF0D47BC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557E7-4FD0-423A-BAC5-C3D0E951A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6F7E1-F045-4A46-9456-6D0AC2BEF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2FD35-EC72-4FF3-9307-6EFAFFCB6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370DB-FCCB-4AC8-8634-1A3277AE6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30E18C-BA83-45DD-A706-AEBA77545F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CD46C-9D49-4BB8-9FDC-827B75B21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6B621-4391-4356-82DE-BA9D696F2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A66E8-5DD7-40AD-A70D-98F1CCD0C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91243-3FA8-4B13-A13A-DEBD850BD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3CE84-6EEF-4E7A-A357-043246A517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53B2-7319-42E6-8286-B05A86A73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815945-3ABA-4188-9387-7A3FE637D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CEC00-F753-4636-84DF-64C637C7EB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8305A1-D85F-4E30-B070-B559EEFA1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49A74D-B380-411F-AAEB-92398351A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77F34-DC9E-4B48-AD25-E2FFE722F9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921F23-888B-4550-9EC7-DCD468840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2BBA9-ECE4-4169-A2E6-5D4F5A116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E5AEF-D93A-4649-95D6-A3B27EF09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4C11BE-69B2-4CEF-A150-9BB5405CD6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E3A5F-76F8-4999-A413-867A0195A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E43C-3F09-43AF-B832-62C70135C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CA485-CCF0-4576-896D-83111729D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87814C-4265-483E-A0D0-AF8743CE8A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5356DC-5C81-4915-ABD0-8D5FF1D02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53F50-D4E6-44F6-ABF9-9797CCC0E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685E-1A80-4191-A676-EA10475AB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BE1E-9AD3-4BBF-9824-BB766A7AB0D1}"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8640" y="4998600"/>
              <a:ext cx="9135360" cy="1865880"/>
              <a:chOff x="8640" y="4998600"/>
              <a:chExt cx="9135360" cy="1865880"/>
            </a:xfrm>
          </p:grpSpPr>
          <p:pic>
            <p:nvPicPr>
              <p:cNvPr id="52" name="Полилиния 19" descr=""/>
              <p:cNvPicPr/>
              <p:nvPr/>
            </p:nvPicPr>
            <p:blipFill>
              <a:blip r:embed="rId3"/>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4"/>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C595-A255-4DAF-A1CA-7B3F8C53DC2A}" type="slidenum">
              <a:rPr b="0" lang="en-US"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6480" y="5791320"/>
            <a:ext cx="3402000" cy="1079280"/>
            <a:chOff x="-6480" y="5791320"/>
            <a:chExt cx="3402000" cy="1079280"/>
          </a:xfrm>
        </p:grpSpPr>
        <p:pic>
          <p:nvPicPr>
            <p:cNvPr id="99"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FDE2-11CE-4240-833D-59BDC6122C70}"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A062-D3DD-4F67-B584-6BE0975EB9AA}"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89C7-5666-4310-BDA3-6B94111409F1}"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Прямоугольный треугольник 16"/>
          <p:cNvGrpSpPr/>
          <p:nvPr/>
        </p:nvGrpSpPr>
        <p:grpSpPr>
          <a:xfrm>
            <a:off x="-6480" y="5791320"/>
            <a:ext cx="3402000" cy="1079280"/>
            <a:chOff x="-6480" y="5791320"/>
            <a:chExt cx="3402000" cy="1079280"/>
          </a:xfrm>
        </p:grpSpPr>
        <p:pic>
          <p:nvPicPr>
            <p:cNvPr id="230" name="Прямоугольный треугольник 16" descr=""/>
            <p:cNvPicPr/>
            <p:nvPr/>
          </p:nvPicPr>
          <p:blipFill>
            <a:blip r:embed="rId3"/>
            <a:stretch/>
          </p:blipFill>
          <p:spPr>
            <a:xfrm>
              <a:off x="-6480" y="5791320"/>
              <a:ext cx="3402000" cy="107928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Прямая соединительная линия 18" descr=""/>
          <p:cNvPicPr/>
          <p:nvPr/>
        </p:nvPicPr>
        <p:blipFill>
          <a:blip r:embed="rId4"/>
          <a:stretch/>
        </p:blipFill>
        <p:spPr>
          <a:xfrm>
            <a:off x="-19080" y="5778360"/>
            <a:ext cx="3414600" cy="1098720"/>
          </a:xfrm>
          <a:prstGeom prst="rect">
            <a:avLst/>
          </a:prstGeom>
          <a:ln w="0">
            <a:noFill/>
          </a:ln>
        </p:spPr>
      </p:pic>
      <p:sp>
        <p:nvSpPr>
          <p:cNvPr id="233"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AE82-A98C-4857-8ED5-9DE23D2CBF12}"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31840" y="85680"/>
            <a:ext cx="8454960" cy="1335240"/>
          </a:xfrm>
          <a:prstGeom prst="rect">
            <a:avLst/>
          </a:prstGeom>
          <a:ln w="0">
            <a:noFill/>
          </a:ln>
        </p:spPr>
      </p:pic>
      <p:sp>
        <p:nvSpPr>
          <p:cNvPr id="277" name="Заголовок 3"/>
          <p:cNvSpPr/>
          <p:nvPr/>
        </p:nvSpPr>
        <p:spPr>
          <a:xfrm>
            <a:off x="2590920" y="2919240"/>
            <a:ext cx="3962160" cy="101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Заголовок 3"/>
          <p:cNvSpPr/>
          <p:nvPr/>
        </p:nvSpPr>
        <p:spPr>
          <a:xfrm>
            <a:off x="2743200" y="3071880"/>
            <a:ext cx="3962520" cy="10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Заголовок 3"/>
          <p:cNvSpPr/>
          <p:nvPr/>
        </p:nvSpPr>
        <p:spPr>
          <a:xfrm>
            <a:off x="2895480" y="3224160"/>
            <a:ext cx="3962520" cy="101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4" descr="D:\i.jpeg58.jpeg"/>
          <p:cNvPicPr/>
          <p:nvPr/>
        </p:nvPicPr>
        <p:blipFill>
          <a:blip r:embed="rId2"/>
          <a:stretch/>
        </p:blipFill>
        <p:spPr>
          <a:xfrm>
            <a:off x="3800520" y="3030480"/>
            <a:ext cx="4174920" cy="329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Заголовок 3" descr=""/>
          <p:cNvPicPr/>
          <p:nvPr/>
        </p:nvPicPr>
        <p:blipFill>
          <a:blip r:embed="rId1"/>
          <a:stretch/>
        </p:blipFill>
        <p:spPr>
          <a:xfrm>
            <a:off x="231840" y="122400"/>
            <a:ext cx="8454960" cy="1298520"/>
          </a:xfrm>
          <a:prstGeom prst="rect">
            <a:avLst/>
          </a:prstGeom>
          <a:ln w="0">
            <a:noFill/>
          </a:ln>
        </p:spPr>
      </p:pic>
      <p:pic>
        <p:nvPicPr>
          <p:cNvPr id="291" name="Picture 4" descr="D:\1223.jpeg"/>
          <p:cNvPicPr/>
          <p:nvPr/>
        </p:nvPicPr>
        <p:blipFill>
          <a:blip r:embed="rId2"/>
          <a:stretch/>
        </p:blipFill>
        <p:spPr>
          <a:xfrm>
            <a:off x="3124080" y="2362320"/>
            <a:ext cx="2919600" cy="3606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Кассир ошибочно пробил кассовый чек и обнаружил ошибку после снятия суточного отчета с гашением</a:t>
            </a:r>
            <a:endParaRPr b="0" lang="en-US" sz="4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Документальное оформление ошибочно пробитого кассового чека в данном случае похоже на ситуацию №1.</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Отличие заключается в том, что записи в журнал кассира-операциониста КМ-4 при этом не вносится. Аннулирование ошибочно пробитого кассового чека при обнаружении ошибки после снятия гашения оформляется РКО (расходным кассовым ордером) из «главной кассы», так как выручка за предыдущий день уже была оприходована.</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481040"/>
            <a:ext cx="8229600" cy="4525920"/>
          </a:xfrm>
          <a:prstGeom prst="rect">
            <a:avLst/>
          </a:prstGeom>
          <a:noFill/>
          <a:ln w="0">
            <a:noFill/>
          </a:ln>
        </p:spPr>
        <p:txBody>
          <a:bodyPr anchor="t">
            <a:normAutofit/>
          </a:bodyPr>
          <a:p>
            <a:pPr marL="365040" indent="-25560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Директору ООО «Русские»</a:t>
            </a:r>
            <a:endParaRPr b="0" lang="en-US" sz="1700" spc="-1" strike="noStrike">
              <a:solidFill>
                <a:srgbClr val="000000"/>
              </a:solidFill>
              <a:latin typeface="Lucida Sans Unicode"/>
            </a:endParaRPr>
          </a:p>
          <a:p>
            <a:pPr marL="365040" indent="-25560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Иванову И.И.</a:t>
            </a:r>
            <a:endParaRPr b="0" lang="en-US" sz="1700" spc="-1" strike="noStrike">
              <a:solidFill>
                <a:srgbClr val="000000"/>
              </a:solidFill>
              <a:latin typeface="Lucida Sans Unicode"/>
            </a:endParaRPr>
          </a:p>
          <a:p>
            <a:pPr marL="365040" indent="-25560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т кассира магазина «Продукты»</a:t>
            </a:r>
            <a:endParaRPr b="0" lang="en-US" sz="1700" spc="-1" strike="noStrike">
              <a:solidFill>
                <a:srgbClr val="000000"/>
              </a:solidFill>
              <a:latin typeface="Lucida Sans Unicode"/>
            </a:endParaRPr>
          </a:p>
          <a:p>
            <a:pPr marL="365040" indent="-25560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П. Сидорову</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endParaRPr b="0" lang="en-US" sz="17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Объяснительная записка</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12 января 2012 года работая на кассовой машине Астре 100ф заводской номер № 12345601 ошибочно были пробиты чеки:</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0012356 на сумму 2500 руб. 00 коп. (Две тысячи пятьсот рублей 00 копеек)</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Итого на общую сумму 2500 руб. 00 коп. (Две тысячи пятьсот рублей 00 копеек)</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о причине невнимательности при работе на ККТ.</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endParaRPr b="0" lang="en-US" sz="1700" spc="-1" strike="noStrike">
              <a:solidFill>
                <a:srgbClr val="000000"/>
              </a:solidFill>
              <a:latin typeface="Lucida Sans Unicode"/>
            </a:endParaRPr>
          </a:p>
          <a:p>
            <a:pPr marL="365040" indent="-255600"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2 января 2012 г.                                           ________________    </a:t>
            </a:r>
            <a:r>
              <a:rPr b="0" lang="ru-RU" sz="1700" spc="-1" strike="noStrike">
                <a:solidFill>
                  <a:srgbClr val="000000"/>
                </a:solidFill>
                <a:latin typeface="Times New Roman"/>
                <a:ea typeface="Times New Roman"/>
              </a:rPr>
              <a:t>М.П. Сидоров</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481040"/>
            <a:ext cx="8229600" cy="4525920"/>
          </a:xfrm>
          <a:prstGeom prst="rect">
            <a:avLst/>
          </a:prstGeom>
          <a:noFill/>
          <a:ln w="0">
            <a:noFill/>
          </a:ln>
        </p:spPr>
        <p:txBody>
          <a:bodyPr anchor="t">
            <a:normAutofit/>
          </a:bodyPr>
          <a:p>
            <a:pPr marL="365040" indent="-25560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Кассир ошибочно пробил чек и обнаружил ошибку до снятия суточного отчета с гашением</a:t>
            </a:r>
            <a:endParaRPr b="0" lang="en-US" sz="4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1.</a:t>
            </a:r>
            <a:r>
              <a:rPr b="0" lang="ru-RU" sz="2700" spc="-1" strike="noStrike">
                <a:solidFill>
                  <a:srgbClr val="000000"/>
                </a:solidFill>
                <a:latin typeface="Times New Roman"/>
                <a:ea typeface="Times New Roman"/>
              </a:rPr>
              <a:t> Оформляем акт КМ-3 «О возврате денежных сумм покупателям по неиспользованным кассовым чекам (в том числе по ошибочно пробитым кассовым чекам)»;</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83" name="Заголовок 3" descr=""/>
          <p:cNvPicPr/>
          <p:nvPr/>
        </p:nvPicPr>
        <p:blipFill>
          <a:blip r:embed="rId1"/>
          <a:stretch/>
        </p:blipFill>
        <p:spPr>
          <a:xfrm>
            <a:off x="304920" y="19080"/>
            <a:ext cx="8381880" cy="14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218960"/>
            <a:ext cx="8229600" cy="478764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2.</a:t>
            </a:r>
            <a:r>
              <a:rPr b="0" lang="ru-RU" sz="2700" spc="-1" strike="noStrike">
                <a:solidFill>
                  <a:srgbClr val="000000"/>
                </a:solidFill>
                <a:latin typeface="Times New Roman"/>
                <a:ea typeface="Times New Roman"/>
              </a:rPr>
              <a:t> Прикалываем ошибочно пробитый чек к заполненному акту КМ-3. В случае, если в кассовой машине применяется термопечать (термобумага), то снимаем копию кассового чека и также прикладываем его к акту.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480680"/>
            <a:ext cx="8229600" cy="141444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3.</a:t>
            </a:r>
            <a:r>
              <a:rPr b="0" lang="ru-RU" sz="2700" spc="-1" strike="noStrike">
                <a:solidFill>
                  <a:srgbClr val="000000"/>
                </a:solidFill>
                <a:latin typeface="Times New Roman"/>
                <a:ea typeface="Times New Roman"/>
              </a:rPr>
              <a:t> На ошибочно пробитом чеке ставим отметку «ПОГАШЕНО»;</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4</a:t>
            </a:r>
            <a:r>
              <a:rPr b="0" lang="ru-RU" sz="2700" spc="-1" strike="noStrike">
                <a:solidFill>
                  <a:srgbClr val="000000"/>
                </a:solidFill>
                <a:latin typeface="Times New Roman"/>
                <a:ea typeface="Times New Roman"/>
              </a:rPr>
              <a:t>. Кассир пишет объяснительную записку на имя руководителя, в которой излагает причину ошибочного пробитого чека. Причиной может быть: невнимательность при работе на ККТ, сбой работы ККТ и прочее;</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5.</a:t>
            </a:r>
            <a:r>
              <a:rPr b="0" lang="ru-RU" sz="2700" spc="-1" strike="noStrike">
                <a:solidFill>
                  <a:srgbClr val="000000"/>
                </a:solidFill>
                <a:latin typeface="Times New Roman"/>
                <a:ea typeface="Times New Roman"/>
              </a:rPr>
              <a:t> Пробивать чек на возврат при этом не обязательно, так как данная операция не является фискальной, т.е. она не влияет на показания фискальной памяти ККТ. Пробтите или непробитие чека на возврат (при ошибочно пробитом чеке) является личным делом каждой организации, и может применятся для удобства внутреннего учета организации. (такая позиция налоговиков приводится в письме ИФНС от 02.04.2003г. № 29-12/1793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ea typeface="Times New Roman"/>
              </a:rPr>
              <a:t>6.</a:t>
            </a:r>
            <a:r>
              <a:rPr b="0" lang="ru-RU" sz="2700" spc="-1" strike="noStrike">
                <a:solidFill>
                  <a:srgbClr val="000000"/>
                </a:solidFill>
                <a:latin typeface="Times New Roman"/>
                <a:ea typeface="Times New Roman"/>
              </a:rPr>
              <a:t> РКО при этом на сумму возврата не составляем, так как данная операция производится внутри «операционной кассы»;</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7.</a:t>
            </a:r>
            <a:r>
              <a:rPr b="0" lang="ru-RU" sz="2500" spc="-1" strike="noStrike">
                <a:solidFill>
                  <a:srgbClr val="000000"/>
                </a:solidFill>
                <a:latin typeface="Times New Roman"/>
                <a:ea typeface="Times New Roman"/>
              </a:rPr>
              <a:t> Делаем соответствующие записи в журнале кассира - операциониста (форма КМ-4) по завершению смены:</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a:t>
            </a:r>
            <a:r>
              <a:rPr b="1" lang="ru-RU" sz="2500" spc="-1" strike="noStrike">
                <a:solidFill>
                  <a:srgbClr val="000000"/>
                </a:solidFill>
                <a:latin typeface="Times New Roman"/>
                <a:ea typeface="Times New Roman"/>
              </a:rPr>
              <a:t>графе 10</a:t>
            </a:r>
            <a:r>
              <a:rPr b="0" lang="ru-RU" sz="2500" spc="-1" strike="noStrike">
                <a:solidFill>
                  <a:srgbClr val="000000"/>
                </a:solidFill>
                <a:latin typeface="Times New Roman"/>
                <a:ea typeface="Times New Roman"/>
              </a:rPr>
              <a:t> показываем всю выручку за день (ошибочно пробитые суммы не отнимаем);</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a:t>
            </a:r>
            <a:r>
              <a:rPr b="1" lang="ru-RU" sz="2500" spc="-1" strike="noStrike">
                <a:solidFill>
                  <a:srgbClr val="000000"/>
                </a:solidFill>
                <a:latin typeface="Times New Roman"/>
                <a:ea typeface="Times New Roman"/>
              </a:rPr>
              <a:t>графу 11</a:t>
            </a:r>
            <a:r>
              <a:rPr b="0" lang="ru-RU" sz="2500" spc="-1" strike="noStrike">
                <a:solidFill>
                  <a:srgbClr val="000000"/>
                </a:solidFill>
                <a:latin typeface="Times New Roman"/>
                <a:ea typeface="Times New Roman"/>
              </a:rPr>
              <a:t> заносим выручку за минусом ошибочно пробитых сумм;</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a:t>
            </a:r>
            <a:r>
              <a:rPr b="1" lang="ru-RU" sz="2500" spc="-1" strike="noStrike">
                <a:solidFill>
                  <a:srgbClr val="000000"/>
                </a:solidFill>
                <a:latin typeface="Times New Roman"/>
                <a:ea typeface="Times New Roman"/>
              </a:rPr>
              <a:t>графу 15</a:t>
            </a:r>
            <a:r>
              <a:rPr b="0" lang="ru-RU" sz="2500" spc="-1" strike="noStrike">
                <a:solidFill>
                  <a:srgbClr val="000000"/>
                </a:solidFill>
                <a:latin typeface="Times New Roman"/>
                <a:ea typeface="Times New Roman"/>
              </a:rPr>
              <a:t> отражаем сумму по ошибочно пробитым кассовым чекам;</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Сумма </a:t>
            </a:r>
            <a:r>
              <a:rPr b="1" lang="ru-RU" sz="2500" spc="-1" strike="noStrike">
                <a:solidFill>
                  <a:srgbClr val="000000"/>
                </a:solidFill>
                <a:latin typeface="Times New Roman"/>
                <a:ea typeface="Times New Roman"/>
              </a:rPr>
              <a:t>граф 14 и 15</a:t>
            </a:r>
            <a:r>
              <a:rPr b="0" lang="ru-RU" sz="2500" spc="-1" strike="noStrike">
                <a:solidFill>
                  <a:srgbClr val="000000"/>
                </a:solidFill>
                <a:latin typeface="Times New Roman"/>
                <a:ea typeface="Times New Roman"/>
              </a:rPr>
              <a:t> должны соответствовать данным графы 10.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203</dc:creator>
  <dc:description/>
  <dc:language>en-US</dc:language>
  <cp:lastModifiedBy>203</cp:lastModifiedBy>
  <dcterms:modified xsi:type="dcterms:W3CDTF">2014-01-12T07:41:49Z</dcterms:modified>
  <cp:revision>5</cp:revision>
  <dc:subject/>
  <dc:title>Ситуация №1.</dc:title>
</cp:coreProperties>
</file>