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B55-097B-42F0-BCE2-FB5FC29F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B9F-7DFF-4742-96BD-590581D4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8D9-8213-476D-9C5D-2DAB720E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FBB-139A-451C-B26A-19DEA1CC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C36-2B83-4953-A781-20A2C230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2759-748E-4BEA-B666-122E5483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2C92-6C0E-4E2F-AE65-09EE2304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950-BE6F-4E91-B2D9-A24BA8FC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55AD-360B-42B5-9852-182DE80F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FB30-9CDD-4970-87A3-3E3BBF51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68C-33A4-4D0B-B989-6C32EEB5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161-E3CB-418F-BBE8-1AF3913F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1FCA-BA36-4B30-9705-EF89F66E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FCF-2898-4F00-87C4-CB4EB4FF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5146-9625-4A39-AD2C-A2703CC5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D67-235E-452C-B3AF-81895F11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6D4-6E0E-41E7-AD06-6CDC378D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0DDA9-DA95-4EE2-812F-D83B95AA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8FBA-A12A-42D5-A781-074775E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7516-CA22-49DA-B524-8F938954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D6F7-0F44-4577-B3BD-18870FF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D3D13-7D40-424F-9814-DF8EAAA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480-B58F-41A7-A046-D3350DD2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61BB-2C23-4003-B3E3-B7A2648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35EDD-54E2-4605-AF91-1C41E70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B424-97E3-4E9E-8673-E37655E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E9C4-13A2-4FF1-80D2-5512DE04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B9E7-4B26-4AE7-85D0-BFEE8FFD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0308-70D8-464D-8C2F-16CE2774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8FE6-561B-41F2-B7F7-131F9C44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FB42-93D0-42A7-8255-0E909D81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CBB7E-48FE-412C-81E5-5A33B4F9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C5BF-D7CD-47E6-A74A-950305B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1D5-D33B-4D07-B59A-F3C3B06F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9B4B-FEE7-46DB-99D9-B0BC51E0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257B-5A13-4390-A344-EE4804E4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7236-6896-4AC5-B352-216DA91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0589-A984-4B1C-A04B-FD935494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EC01-BAF0-4C9C-974F-3CC8236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14B44-A74D-49C9-8572-737C8EF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A9DBE-5618-4DD9-A608-0E5B3E2B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5318-9882-491A-816B-32140E27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961D-1458-424E-9880-9B2DFBE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E09B-36B6-4DDA-B12A-D4DB40C2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9BD-D101-40DB-9874-894E7999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2DFCA-BDF1-46B3-8E42-040F06D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32BB5-F283-4E1C-96FC-0559042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123A-BC39-452F-A0DE-CF041BF5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E43A3-CACC-4E30-85A5-A919FFEB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D16D-3EE6-4ACA-AE5C-19E2E1C4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13C4-312B-48F0-BFC8-1132CDC1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C351E-6897-4EDA-B306-109CC628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26EA-9C96-41F9-8CF7-88656EB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DADE-A0E2-470C-8D3C-3D68BCA1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1AFB-F6F4-49CD-ADE4-23B1698B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BD2-C81F-402B-98A7-CB516A32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760B9-FC2B-4818-A027-EED7C196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D865-5ABB-47F0-AD7A-FD37BAB9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3DFC-3605-41DA-9A68-E66ED60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C216-743C-49E5-ABF6-35B5F1C7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5D0CF-44E6-4A8F-890E-35AF21D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186A7-687D-4619-98B7-B113E6F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5990-18C1-41D3-97D3-449367C3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01DB-E4DE-4DC5-B3E4-68B9A68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E9C3-E48D-4A61-BE2F-20D7A75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65CAC-A377-4A76-8AD7-D6C36EB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A02-9740-4AED-B9F1-D619AD3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6A58B-2CFA-4E87-8F4A-8A7CAADE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B1C24-203A-483A-AD33-D02FF45D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9E9D-7220-4338-84A9-C6683C77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F6D-CF2D-4BB9-BD03-F8C0548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649-802D-4A65-B3C6-BD63ADDC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5314-67D4-4009-A459-49984C1DE8E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9377-71B8-4B7F-9E67-69D63382D23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7CB-515B-42B3-BEDB-620E5BF1A57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370E-AD0B-45A1-9970-8F0B12F4BBF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B5A0-6623-40C1-B195-25641AE0D97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F631-D42C-4AF5-B39E-B4EEC085EFF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Book"/>
              </a:rPr>
              <a:t>Вычисление массы брутто, нетто, тары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5" name="Содержимое 6" descr="er-junior-stoyka_2.jpg"/>
          <p:cNvPicPr/>
          <p:nvPr/>
        </p:nvPicPr>
        <p:blipFill>
          <a:blip r:embed="rId1"/>
          <a:stretch/>
        </p:blipFill>
        <p:spPr>
          <a:xfrm>
            <a:off x="642960" y="2332080"/>
            <a:ext cx="3327480" cy="452592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7" descr="i.jpeg45.jpeg"/>
          <p:cNvPicPr/>
          <p:nvPr/>
        </p:nvPicPr>
        <p:blipFill>
          <a:blip r:embed="rId2"/>
          <a:stretch/>
        </p:blipFill>
        <p:spPr>
          <a:xfrm>
            <a:off x="5424480" y="3243240"/>
            <a:ext cx="13431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Тара</a:t>
            </a:r>
            <a:r>
              <a:rPr b="0" lang="ru-RU" sz="2900" spc="-1" strike="noStrike">
                <a:solidFill>
                  <a:srgbClr val="ffffff"/>
                </a:solidFill>
                <a:latin typeface="Franklin Gothic Book"/>
              </a:rPr>
              <a:t>-это изделие, которое предназначено для упаковки товаров в целях обеспечения его полной сохранности во время транспортировки и хранения</a:t>
            </a:r>
            <a:br>
              <a:rPr sz="4100"/>
            </a:br>
            <a:endParaRPr b="0" lang="en-US" sz="29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Содержимое 3" descr="120738.jpg124.jpg"/>
          <p:cNvPicPr/>
          <p:nvPr/>
        </p:nvPicPr>
        <p:blipFill>
          <a:blip r:embed="rId1"/>
          <a:stretch/>
        </p:blipFill>
        <p:spPr>
          <a:xfrm>
            <a:off x="4357800" y="3214800"/>
            <a:ext cx="4190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Брутто- это полный вес товара с упаковкой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0" name="Содержимое 3" descr="i.jpeg89.jpeg"/>
          <p:cNvPicPr/>
          <p:nvPr/>
        </p:nvPicPr>
        <p:blipFill>
          <a:blip r:embed="rId1"/>
          <a:stretch/>
        </p:blipFill>
        <p:spPr>
          <a:xfrm>
            <a:off x="2000160" y="2643120"/>
            <a:ext cx="4500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Book"/>
              </a:rPr>
              <a:t>Нетто- вес товара без упаковки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Содержимое 3" descr="0008028522.fid.jpg"/>
          <p:cNvPicPr/>
          <p:nvPr/>
        </p:nvPicPr>
        <p:blipFill>
          <a:blip r:embed="rId1"/>
          <a:stretch/>
        </p:blipFill>
        <p:spPr>
          <a:xfrm>
            <a:off x="1143000" y="1928880"/>
            <a:ext cx="60958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Б=Н+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=Б-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8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Т=Б-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424640" cy="157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Book"/>
              </a:rPr>
              <a:t>Завес тары- это разница между фактическим весом и весом по документам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Содержимое 7" descr="69.jpeg"/>
          <p:cNvPicPr/>
          <p:nvPr/>
        </p:nvPicPr>
        <p:blipFill>
          <a:blip r:embed="rId1"/>
          <a:stretch/>
        </p:blipFill>
        <p:spPr>
          <a:xfrm>
            <a:off x="857160" y="3243240"/>
            <a:ext cx="3714840" cy="2257560"/>
          </a:xfrm>
          <a:prstGeom prst="rect">
            <a:avLst/>
          </a:prstGeom>
          <a:ln w="0">
            <a:noFill/>
          </a:ln>
        </p:spPr>
      </p:pic>
      <p:pic>
        <p:nvPicPr>
          <p:cNvPr id="266" name="Содержимое 6" descr="i.jpeg"/>
          <p:cNvPicPr/>
          <p:nvPr/>
        </p:nvPicPr>
        <p:blipFill>
          <a:blip r:embed="rId2"/>
          <a:stretch/>
        </p:blipFill>
        <p:spPr>
          <a:xfrm>
            <a:off x="5162400" y="1928880"/>
            <a:ext cx="3195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09:36:46Z</dcterms:created>
  <dc:creator>ЗавТЭО</dc:creator>
  <dc:description/>
  <dc:language>en-US</dc:language>
  <cp:lastModifiedBy>DavidOFF</cp:lastModifiedBy>
  <dcterms:modified xsi:type="dcterms:W3CDTF">2014-10-25T15:28:41Z</dcterms:modified>
  <cp:revision>4</cp:revision>
  <dc:subject/>
  <dc:title>Вычисление массы брутто, нетто, тары</dc:title>
</cp:coreProperties>
</file>