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799763" cy="76327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979-864F-4435-B1AD-B889E814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06360"/>
            <a:ext cx="9721800" cy="1271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781280"/>
            <a:ext cx="972180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412520"/>
            <a:ext cx="972180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4BA-A931-4AF5-907C-0D66EC35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06360"/>
            <a:ext cx="9721800" cy="1271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81280"/>
            <a:ext cx="474408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781280"/>
            <a:ext cx="474408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412520"/>
            <a:ext cx="474408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412520"/>
            <a:ext cx="474408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605-7294-415B-AADA-AA04B3C4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06360"/>
            <a:ext cx="9721800" cy="1271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781280"/>
            <a:ext cx="313020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781280"/>
            <a:ext cx="313020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781280"/>
            <a:ext cx="313020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412520"/>
            <a:ext cx="313020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412520"/>
            <a:ext cx="313020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412520"/>
            <a:ext cx="313020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641-051B-4449-814D-2ADD2CD7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06360"/>
            <a:ext cx="9721800" cy="1271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781280"/>
            <a:ext cx="972180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2EE-449C-4D39-8239-02640F1F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06360"/>
            <a:ext cx="9721800" cy="1271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781280"/>
            <a:ext cx="9721800" cy="5037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6D4-C902-4365-A425-7F43676F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06360"/>
            <a:ext cx="9721800" cy="1271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781280"/>
            <a:ext cx="4744080" cy="5037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781280"/>
            <a:ext cx="4744080" cy="5037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2B5-6ED5-472E-9074-AFEFBBB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06360"/>
            <a:ext cx="9721800" cy="1271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733-1CB0-4DAE-9126-781F0642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06360"/>
            <a:ext cx="972180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BA6-2DC0-4940-B4B4-999A33DA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06360"/>
            <a:ext cx="9721800" cy="1271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781280"/>
            <a:ext cx="474408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781280"/>
            <a:ext cx="4744080" cy="5037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412520"/>
            <a:ext cx="474408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F4E-0FC7-4CB1-A71D-E9F5BCB3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06360"/>
            <a:ext cx="9721800" cy="1271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781280"/>
            <a:ext cx="4744080" cy="5037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781280"/>
            <a:ext cx="474408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412520"/>
            <a:ext cx="474408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5EA-99F1-4647-ABBC-6D30102D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06360"/>
            <a:ext cx="9721800" cy="1271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781280"/>
            <a:ext cx="474408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781280"/>
            <a:ext cx="474408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412520"/>
            <a:ext cx="9721800" cy="24026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597-707B-4C7E-9C10-36E0752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06360"/>
            <a:ext cx="9721800" cy="1271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781280"/>
            <a:ext cx="9721800" cy="5037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marL="395280" indent="-395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86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16160" indent="-2635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43200" indent="-2635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70240" indent="-2635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70240" indent="-2635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70240" indent="-2635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949800"/>
            <a:ext cx="2521080" cy="5302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949800"/>
            <a:ext cx="3419280" cy="5302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949800"/>
            <a:ext cx="2520720" cy="5302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C9B0-17FE-4545-8FD6-8C7E7D4C162F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9640" y="2371680"/>
            <a:ext cx="9182160" cy="1635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r>
              <a:rPr b="1" lang="ru-RU" sz="8000" spc="-1" strike="noStrike">
                <a:solidFill>
                  <a:srgbClr val="1e4649"/>
                </a:solidFill>
                <a:latin typeface="Arial Black"/>
              </a:rPr>
              <a:t>ОФОРМЛЕНИЕ ПРИХОДНОГО </a:t>
            </a:r>
            <a:br>
              <a:rPr sz="8000"/>
            </a:br>
            <a:r>
              <a:rPr b="1" lang="ru-RU" sz="8000" spc="-1" strike="noStrike">
                <a:solidFill>
                  <a:srgbClr val="1e4649"/>
                </a:solidFill>
                <a:latin typeface="Arial Black"/>
              </a:rPr>
              <a:t>КАССОВОГО </a:t>
            </a:r>
            <a:br>
              <a:rPr sz="8000"/>
            </a:br>
            <a:r>
              <a:rPr b="1" lang="ru-RU" sz="8000" spc="-1" strike="noStrike">
                <a:solidFill>
                  <a:srgbClr val="1e4649"/>
                </a:solidFill>
                <a:latin typeface="Arial Black"/>
              </a:rPr>
              <a:t>ОРДЕ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9640" y="2371680"/>
            <a:ext cx="9182160" cy="1635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620360" y="4325760"/>
            <a:ext cx="755964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757080" y="316080"/>
          <a:ext cx="9447480" cy="69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316080"/>
                    <a:ext cx="9447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9640" y="2371680"/>
            <a:ext cx="9182160" cy="1635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20360" y="4325760"/>
            <a:ext cx="755964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471600" y="384120"/>
          <a:ext cx="9786960" cy="691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84120"/>
                    <a:ext cx="9786960" cy="691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9640" y="2371680"/>
            <a:ext cx="9182160" cy="1635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20360" y="4325760"/>
            <a:ext cx="755964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614520" y="264960"/>
          <a:ext cx="9572400" cy="71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264960"/>
                    <a:ext cx="9572400" cy="71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306360"/>
            <a:ext cx="9721800" cy="12715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7" descr="печ.bmp"/>
          <p:cNvPicPr/>
          <p:nvPr/>
        </p:nvPicPr>
        <p:blipFill>
          <a:blip r:embed="rId1"/>
          <a:srcRect l="15171" t="10347" r="11546" b="10381"/>
          <a:stretch/>
        </p:blipFill>
        <p:spPr>
          <a:xfrm>
            <a:off x="971640" y="203040"/>
            <a:ext cx="9072360" cy="713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9640" y="2371680"/>
            <a:ext cx="9182160" cy="1635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20360" y="4325760"/>
            <a:ext cx="755964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471600" y="173160"/>
          <a:ext cx="9910800" cy="721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73160"/>
                    <a:ext cx="9910800" cy="72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9640" y="2371680"/>
            <a:ext cx="9182160" cy="1635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20360" y="4325760"/>
            <a:ext cx="755964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257040" y="244440"/>
          <a:ext cx="10106280" cy="710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244440"/>
                    <a:ext cx="10106280" cy="71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9640" y="2371680"/>
            <a:ext cx="9182160" cy="1635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20360" y="4325760"/>
            <a:ext cx="755964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99960" y="316080"/>
          <a:ext cx="9758520" cy="689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16080"/>
                    <a:ext cx="9758520" cy="68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9640" y="2371680"/>
            <a:ext cx="9182160" cy="1635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0360" y="4325760"/>
            <a:ext cx="755964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14520" y="316080"/>
          <a:ext cx="9572400" cy="705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316080"/>
                    <a:ext cx="9572400" cy="70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9640" y="2371680"/>
            <a:ext cx="9182160" cy="1635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620360" y="4325760"/>
            <a:ext cx="755964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328680" y="173160"/>
          <a:ext cx="10115640" cy="698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73160"/>
                    <a:ext cx="10115640" cy="69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9640" y="2371680"/>
            <a:ext cx="9182160" cy="1635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620360" y="4325760"/>
            <a:ext cx="755964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828720" y="244440"/>
          <a:ext cx="9331200" cy="695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44440"/>
                    <a:ext cx="9331200" cy="69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9640" y="2371680"/>
            <a:ext cx="9182160" cy="1635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620360" y="4325760"/>
            <a:ext cx="755964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685800" y="316080"/>
          <a:ext cx="9399600" cy="69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6080"/>
                    <a:ext cx="939960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9640" y="2371680"/>
            <a:ext cx="9182160" cy="1635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620360" y="4325760"/>
            <a:ext cx="755964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2640"/>
                <a:tab algn="l" pos="2104920"/>
                <a:tab algn="l" pos="3157560"/>
                <a:tab algn="l" pos="4210200"/>
                <a:tab algn="l" pos="5262480"/>
                <a:tab algn="l" pos="6315120"/>
                <a:tab algn="l" pos="7367760"/>
                <a:tab algn="l" pos="8420040"/>
                <a:tab algn="l" pos="9472680"/>
                <a:tab algn="l" pos="10524960"/>
              </a:tabLst>
            </a:pPr>
            <a:endParaRPr b="0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542880" y="173160"/>
          <a:ext cx="9715680" cy="71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73160"/>
                    <a:ext cx="9715680" cy="71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09:19:42Z</dcterms:created>
  <dc:creator>Prepod218</dc:creator>
  <dc:description/>
  <dc:language>en-US</dc:language>
  <cp:lastModifiedBy>Prepod218</cp:lastModifiedBy>
  <dcterms:modified xsi:type="dcterms:W3CDTF">2010-11-30T09:49:31Z</dcterms:modified>
  <cp:revision>14</cp:revision>
  <dc:subject/>
  <dc:title>Слайд 1</dc:title>
</cp:coreProperties>
</file>