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77A6-D574-44F9-8397-3DDD5D72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A92-987E-4042-AF60-B93C9D75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5B7E3-568E-479F-BC0F-F32BBA4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C8AD2-0BAB-40FB-A219-D8B5CDA7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42B97-E00F-472C-A51E-47CA92DF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E88A6-CBAC-4FCF-9A9A-8A66B5F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59FA1-1CD9-47ED-8BFF-0D9602B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B8574-812D-43E4-B1EC-7E959C97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B26D9-1584-4149-B492-BB38BCF4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C84E7-6484-4843-99E5-DBC05399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A4B2B-D17C-48F1-9996-09CCE766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BB4-0C0E-47BF-85BB-292A7EF3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BC3-4CF4-4C12-9F29-BC3D1C03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750C-49B2-4526-BE9E-84124D6F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C9B9-213B-4A50-8596-39938093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99B6-73D9-4DA0-AA1C-6A4470E5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8816-E743-4AB8-BEA6-06B9026C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181E-5E1B-4C69-B673-227AFE40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6E1C-69F9-42C3-AE0F-63F26DCB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F206-672D-447C-AEEC-28E2125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673C-3A7E-4D35-8259-9D6D0586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69E6-2A79-4508-92CF-0A5B054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362E-8428-41D1-B064-50D4A8E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EA7C-4D38-4978-99EA-D8BAAFF1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5DF-448D-4287-BFA9-16459C8E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4B85-EFFB-4CC7-B67B-898E9208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1A45-6884-41F3-BBE5-940CBFFA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6382-8626-49BA-9FD6-9C9C8E24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8B40-B528-43E7-9152-B2328383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21FC-4F61-462D-9ABA-481EDC71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2D70-D9C1-496C-B8C2-1C6AE505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227-4619-42F1-A389-41AB2514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3BE6-9A3B-409A-8784-D8CBF4E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5FCA-43DD-4763-8BF6-159E1BF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3E0B-E244-46ED-BE50-574554F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9AD6F-6B52-4B14-B447-599C682C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7D00-9F1E-4D63-9D89-2F39D15F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BC7E-F93E-4650-AC5F-2E342927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ED8C-D5B0-4732-BF55-F4C6B3C2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C0A2-3B62-44EA-8D95-7F6895C3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B59A-881A-40DC-907B-4DA87851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7B4C-DD94-4ED9-A719-CAD8D609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ACB-DD43-4F72-9E6F-EEBF33E3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601DF-000A-4E80-B652-ACA3054A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8B95-3FA9-459A-BF6F-0985FDA6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DA68-C633-43F5-8979-DA254635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6618-189C-49FC-9C3A-6EF8ECD9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91541-CBAD-4D52-99DF-BD02E73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2CA6-6241-478B-9C95-64073D9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ED9C-E40C-481A-9585-19062977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F48A-C43A-4543-A434-9996D3BE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D677-2D54-4162-93D9-E5528CE0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13F1-5E79-465C-AC05-A2546618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8BC-B060-4FDC-B38C-E5C5C083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0B19B-4F9D-419F-AFE5-F923369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F6395-A357-46FF-B815-C86EFB3E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807F7-0606-400A-96AB-A6FBFEF7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D2BCB-D734-4537-97EC-6DC0B608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0B65F-02A8-4EC9-8931-D45FAD6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23E6-0F9F-420E-833C-F8F672C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B747-4E3C-4DBA-8071-EC283A1C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04243-4F88-4EC3-8315-27922E0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5B7AD-B469-4AB6-B62C-ED537353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C732-924D-4D63-901B-02BCA2E0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CD2-6505-43DD-9564-7C4C9C33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F2AD8-39E3-4225-BF87-50AD2D95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37940-FAE6-4D47-832D-D7B22405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BA6D5-4D55-4783-A0A0-249A36A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87B0A-9C88-455B-A631-15A1F994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CD07-295D-4794-A97B-16538D79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AACCC-F6AF-4887-8351-38AAAF7B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5FB02-ACC4-4B8D-8641-4B18A641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06C31-2117-4BC7-BBF0-FB4E2740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07E3F-5A70-4F75-9F3E-0421DB2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1805B-6D06-4E19-B0E2-1225B18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959-3C87-44EF-95AE-3CD63C4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95E39-4084-4A72-9251-E2DA3A89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6CC92-C66A-42ED-BD71-2A3B7447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0CEE-EEB1-4909-BE8F-EA25A7A0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38E37-6327-4DD1-B774-2730A057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11F94-5319-4523-824D-09D16A50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F666E-1311-4CE1-8D77-2043EFF3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23A3-C4FD-483F-804D-E9484304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4BE5-7A92-4F9B-BEF6-E193B42A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F19A9-F234-4CFB-B3FB-31C2547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5EA06-E262-45E5-98F3-299E5C5B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0B6-E159-46B2-AC3C-B55DD26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0FB41-6904-4935-84A0-43F6641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8FA1-4D74-418E-9BAF-BF11E059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AF0F-34D1-4C2D-BD54-B4589EF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F8DB0-F01A-41A7-99D4-1A289662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B6EF-C32C-436D-AEAB-84DB4AD9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6DC3B-1B7C-442A-BF34-8E7A0363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FD4A8-8538-4D93-98B1-AB300D8B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E3E04-4D5B-4E5F-A621-65A40D5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E19E2-F975-4A10-B1D1-E636EC2B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4E262-D67B-4A86-AA0F-0A0525B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B2C-E5FB-4A2E-8B10-C71877ED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6209-DD2C-4E20-A276-DED2096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0326-9F58-4595-9906-0F0A0DE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B2C29-0AD0-47C1-B739-ABD9653A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C7FB0-B946-4A51-95E8-D48BC0BB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A4693-2AE1-41EC-9E85-0D7E542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B181-455F-405E-A5B4-C684AA56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699BD-56C6-4E66-ACB3-B94BF5DB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E01BD-394F-488B-91CD-7EEE76D1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012D4-A945-48C9-B1C5-413FC75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5C4DB-C73E-457A-AA5C-4BF9BA56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F240-89FF-4D3C-9D68-D1D4BE56E0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0A3A-36C6-44EE-886B-50836B0015F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9ED6-E423-45F9-A149-EA200FD0AD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B736-5F8D-4BCD-A111-4961EC94479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E92-2803-4965-97F7-BC27C08FD6C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527-684F-4B96-98B8-3E8440C820A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956E-03B0-48AB-9A47-04788AB914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0FA-4941-4CB7-9E54-138C34BA94C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B68B-6768-43D3-8D4D-690B4C32BD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82520" y="4754520"/>
            <a:ext cx="866304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Что делать при утере журнала кассира-операциониста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утере журнала кассира-операциониста Вам нужно вызвать специалиста Вашего Центра технического обслуживания контрольно-кассовых машин, он снимет фискальный отчет  с контрольно-кассовой машины за весь период, с момента ведения утерянного журнал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сле этого Вам нужно будет написать заявление в произвольной форме в Вашу районную ИФНС об утере журнала кассира-операциониста, взять доверенность с печатью на оформление журнала кассира-операциониста (для организации), приобрести новый журнал и со снятым фискальным отчетом обратиться в налоговую службу (в день снятия фискального отчета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ам на основании предоставленных Вами документов оформят новый журнал кассира-операционист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можно ли ведение индивидуальным предпринимателем одного Журнала кассира-операциониста для нескольких контрольно-кассовых машин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едение общего Журнала кассира-операциониста на все кассовые машины, имеющиеся у индивидуального предпринимателя, допускается. В таком случае записи должны производиться в порядке нумерации всех касс (№ 1, 2, 3 и т. д.) с указанием в числителе заводского номера ККТ; показатели счетчиков недействующих ККТ ежедневно повторяются с указанием причин бездействия (в запасе, в ремонте и т. п.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пуск строк в журнале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ногда получается, что ошибочно кассир пропускает одну из строк в журнале кассира-операциониста и продолжает его вести со следующей страницы. В этой ситуации следует поставить прочерки в пропущенных строках. Желательно, чтобы при этом цвет шариковой ручки совпадал с цветом остальных записей. Все записи в журнал кассира-операциониста заносятся по Z-отчетам, а они идут по возрастанию, и каждый имеет свой порядковый номер, соответственно, никакой путаницы или ошибки произойти не может, разрыва в нумерации Z-отчетов нет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 вовремя снятый Z-отче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убейшим нарушением кассовой дисциплины является несвоевременное снятие Z-отчёта. Например, если кассир снимает его не в конце рабочего дня, а на следующий день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рыв (окончание) ленты во время печатания чек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-первых, подобный сбой свидетельствует о частичной неисправности вашей контрольно-кассовой машины, потому что при разрыве чековой ленты в контрольно-кассовой машине срабатывает датчик наличия чековой ленты, и аппарат должен заблокироваться. Поэтому Вам необходимо вызвать инженера ЦТО для диагностики и, если потребуется, устранения предполагаемой нами неисправности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то должен вести журнал кассира-операциониста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обходимо составить акт по форме КМ-3 «О ВОЗВРАТЕ ДЕНЕЖНЫХ СУММ ПОКУПАТЕЛЯМ ПО НЕИСПОЛЬЗОВАННЫМ КАССОВЫМ ЧЕКАМ (в том числе по ошибочно пробитым кассовым чекам)» и приложить к нему объяснительную от кассира в свободной форме, где описать ситуацию, при которой были пробиты эти ошибочные чек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рыв (окончание) ленты во время печатания Z-отчета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лента закончилась, просто вставьте новую, и Z-отчет будет допечатан, потом склейте две части Z-отчета воедино, ничего страшного не произошло, никаких дополнительных документов не требуется. Если же допечатать Z-отчет не удается, или лента не закончилась, а оборвалась, это может свидетельствовать о возможной неисправности контрольно-кассовой машин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этому обязательно вызовите Вашего инженера  ЦТО по обслуживанию ККМ. Он, во-первых, определит, в чем заключается неисправность, а во-вторых, снимет фискальный отчет непосредственно из блока фискальной памяти контрольно-кассовой машины, на основании которого и нужно будет заполнить журнал кассира-операциониста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роме того, инженером делается запись в журнале учета вызовов технических специалистов и регистрации выполненных работ (унифицированная форма КМ-8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урнал кассира-операциониста ДОЛЖНО вести лицо, назначенное приказом руководителя и выполняющее обязанности кассира-операциониста, именно оно и должно ежедневно расписываться в нем. Согласно утвержденного Центральным Банком России "Порядка ведения кассовых операций в Российской Федерации" от 22.09.1993 (п. 33) с кассиром-операционистом должен быть заключен договор о полной материальной ответственнос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де должен храниться журнал кассира-операциониста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урнал кассира-операциониста должен храниться в непосредственной близости от кассового аппарата, так как при налоговых проверках кассовой дисциплины инспектор в первую очередь требует предоставить журнал кассира-операциониста, карточку регистрации кассового аппарата и проверяет наличные денежные средства в кассовом ящике, их соответствие с текущим X-отчет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де и сколько должны храниться чеки Z-отчет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Z-отчеты, впрочем, как и все остальные документы, имеющие отношение к кассовой дисциплине, должны быть сохранены руководством в течение 5 лет в защищенном месте, определенном приказом директора или учетной политикой предприятия. Кассовые документы за текущий квартал деятельности хранятся, как правило, у бухгалтера-кассир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ru-RU" sz="4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ужно ли менять журнал кассира-операциониста каждый календарный год и каков порядок его замены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Журнал кассира-операциониста заполняется полностью до последней страницы, и только потом Вам необходимо привезти его в налоговую инспекцию для получения отметки-штампа о его «гашении». Одновременно нужно привезти новый прошитый/ пронумерованный журнал кассира-операциониста, и, написав заявление на его оформление, получить очередную отметку-разрешение инспектора уже на новом экземпляр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OFF</cp:lastModifiedBy>
  <dcterms:modified xsi:type="dcterms:W3CDTF">2013-12-13T04:23:29Z</dcterms:modified>
  <cp:revision>3</cp:revision>
  <dc:subject/>
  <dc:title>ВОПРОСЫ ПО ККТ</dc:title>
</cp:coreProperties>
</file>