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A9E-5CCE-4AB5-B5E8-A3E0220D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0C1-E0AC-41A1-BD63-36017D0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A6B-87E5-425E-9FE3-C3A59A49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9F4-9304-4613-9CD5-0819CA8E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679-B2BB-4FDD-92A0-E00FAA68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C996-503B-42B0-8124-84087C9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546-5AD8-4BEA-B92F-79518BAD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6965-0F82-45BF-AA68-1697DB8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3593-1B50-4B94-89AA-69980320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5C64-3A12-42AF-BA95-A62D587A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5C23-4BA2-4370-8889-D34BAEF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5F5-4F07-46B6-89E2-40A7DED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BBF3-8263-4484-9436-33BC9C65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053F-5FDA-4BCD-AEB3-883C877C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ABEA-A94E-40EA-82E8-BBC5D56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080B-67F1-4359-9D72-AE976222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31D3-6411-45AC-B4D3-50CCB56B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AF0B-B69D-40E3-B796-4E224796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A43-4527-45DE-BBAB-9F5315A5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34E-EC17-4E3E-9495-6A469818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CEE-D298-43F4-873D-41C2C020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F50-3EAC-48E3-A0D6-FA1B2F1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B71-7D4B-4097-ABDC-47E5F62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639-1783-4F27-A36C-88D9470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3452-C3EF-48B3-ABA9-309285E1F3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8B1-E53D-40D3-87B5-FC3B4EA674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1b60f"/>
                </a:solidFill>
                <a:latin typeface="Arial"/>
              </a:rPr>
              <a:t>Правила эксплуатации ККТ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836640"/>
            <a:ext cx="75438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едует помнить, что у машин с автоматическим открыванием денежного ящика во время выдачи первого чека происходит выталкивание денежного ящика под действием пружин не менее чем на 1/3 его длин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допускается вмешательство в работу машин после ее пуска до окончания рабочего цикл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98100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 остановке машины по неизвестной причине, а так же при внезапном стопорении необходимо отключить ее от эл.си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рещается проводить техническое обслуживание машины, подключенной к сети эл.пит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836280"/>
            <a:ext cx="754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бочее место кассира должно быть оборудовано так, чтобы исключалась возможность соприкосновения работающего с токопроводящими устройствами, батареями отопления, водопроводными труб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ключать машину в сеть следует через специальную розет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54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разрешается применять предохранители, не рассчитанные на ток, предусмотренный технической характеристикой данной машины, и включать машину в сеть без предохраните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"/>
          <p:cNvPicPr/>
          <p:nvPr/>
        </p:nvPicPr>
        <p:blipFill>
          <a:blip r:embed="rId1"/>
          <a:stretch/>
        </p:blipFill>
        <p:spPr>
          <a:xfrm>
            <a:off x="3059280" y="3573360"/>
            <a:ext cx="352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блюдать рабочее место в чистоте, не хранить в кассовой кабине посторонние предметы и личные вещ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 время работы на ККТ соблюдать требования безопасности, изложенные в эксплуатационной документации завода изготовите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ключать ККТ от эл.сети при пробое эл.тока на корпус маши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риступать к работе на ККТ при отсутствии заземл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включать в эл. сеть без предохранител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льзя работать на машине при снятой крышке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4. Требование безопасности в аварийных ситуациях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аварийной обстановке оповестить об опасности окружающих людей, доложить руководителю о случившемся, действовать в соответствии с планом ликвидации авар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страдавшему при травмировании, оказать доврачебную помощь, а при необходимости вызвать врач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5. Требования безопасности по окончании работы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извести межремонтное обслуживание ККТ и подготовить ее к следующему рабочему дню в соответствии с требованиями руководства по эксплуатации данного типа кассовой техник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5582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сле окончания работы на машине необходимо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тключить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электропитание, вынув штепсельную вилку из розетки.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16" name="Picture 6" descr="i"/>
          <p:cNvPicPr/>
          <p:nvPr/>
        </p:nvPicPr>
        <p:blipFill>
          <a:blip r:embed="rId1"/>
          <a:stretch/>
        </p:blipFill>
        <p:spPr>
          <a:xfrm>
            <a:off x="2340000" y="321300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360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 производить уборку мусора на рабочем месте непосредственно руками, использовать для этих целей щетки, совки и др. приспособле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image"/>
          <p:cNvPicPr/>
          <p:nvPr/>
        </p:nvPicPr>
        <p:blipFill>
          <a:blip r:embed="rId1"/>
          <a:stretch/>
        </p:blipFill>
        <p:spPr>
          <a:xfrm>
            <a:off x="4643280" y="981000"/>
            <a:ext cx="38102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1b60f"/>
                </a:solidFill>
                <a:latin typeface="Arial"/>
              </a:rPr>
              <a:t>Типовая инструкция</a:t>
            </a:r>
            <a:br>
              <a:rPr sz="3600"/>
            </a:br>
            <a:r>
              <a:rPr b="1" lang="ru-RU" sz="3600" spc="-1" strike="noStrike">
                <a:solidFill>
                  <a:srgbClr val="f1b60f"/>
                </a:solidFill>
                <a:latin typeface="Arial"/>
              </a:rPr>
              <a:t> по охране труда для контролера - кассира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90" name="Picture 8" descr="касса 2"/>
          <p:cNvPicPr/>
          <p:nvPr/>
        </p:nvPicPr>
        <p:blipFill>
          <a:blip r:embed="rId1"/>
          <a:stretch/>
        </p:blipFill>
        <p:spPr>
          <a:xfrm>
            <a:off x="2050920" y="2492280"/>
            <a:ext cx="4969080" cy="38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1111"/>
          <p:cNvPicPr/>
          <p:nvPr/>
        </p:nvPicPr>
        <p:blipFill>
          <a:blip r:embed="rId1"/>
          <a:stretch/>
        </p:blipFill>
        <p:spPr>
          <a:xfrm>
            <a:off x="1187280" y="549360"/>
            <a:ext cx="70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4" descr="IMG_5742.JPG"/>
          <p:cNvPicPr/>
          <p:nvPr/>
        </p:nvPicPr>
        <p:blipFill>
          <a:blip r:embed="rId1"/>
          <a:stretch/>
        </p:blipFill>
        <p:spPr>
          <a:xfrm>
            <a:off x="2286000" y="1357200"/>
            <a:ext cx="52149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280" y="836640"/>
            <a:ext cx="81342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щее требования безопаснос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ребования безопасности перед началом 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ребования безопасности во время 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ребования безопасности в аварийных ситуация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ребования безопасности по окончании рабо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lnSpc>
                <a:spcPct val="85000"/>
              </a:lnSpc>
              <a:buClr>
                <a:srgbClr val="f1b6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Общее требования безопасности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тролер – кассир извещает своего непосредственного руководителя о любой ситуации угрожающей жизни и здоровью челове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тролер -  кассир в гардеробной; перед началом работы надевает чистую форменную одежду; после посещения туалета моет руки с мылом; не принимает пищу на рабочем месте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f1b60f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Требования безопасности перед началом работы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5438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стегнуть форменную одежду на все пуговицы, убрать волосы под головной убор, не держать в карманах острые предм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00004058"/>
          <p:cNvPicPr/>
          <p:nvPr/>
        </p:nvPicPr>
        <p:blipFill>
          <a:blip r:embed="rId1"/>
          <a:stretch/>
        </p:blipFill>
        <p:spPr>
          <a:xfrm>
            <a:off x="3867120" y="3860640"/>
            <a:ext cx="2073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еред началом работы надо осмотреть вилку, шнур, розетку и убедиться в их исправности.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98" name="Picture 4" descr="419939529c5b55caf26a98afae2bd49c"/>
          <p:cNvPicPr/>
          <p:nvPr/>
        </p:nvPicPr>
        <p:blipFill>
          <a:blip r:embed="rId1"/>
          <a:stretch/>
        </p:blipFill>
        <p:spPr>
          <a:xfrm>
            <a:off x="933480" y="2133720"/>
            <a:ext cx="365760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00004058"/>
          <p:cNvPicPr/>
          <p:nvPr/>
        </p:nvPicPr>
        <p:blipFill>
          <a:blip r:embed="rId2"/>
          <a:stretch/>
        </p:blipFill>
        <p:spPr>
          <a:xfrm>
            <a:off x="5076720" y="2205000"/>
            <a:ext cx="37656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 включения машины в эл.сеть проверить исправность блокирующих устройст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бедиться в исправной работе устройства вызова охраны (администрации), работе аварийного освещ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стойчиво разместить запасы сопутствующих товаров, упаковочные материалы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о всех обнаруженных неисправностях ККТ, эл. проводк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ругих неполадках сообщить своему руководителю, приступить к работе только после их устран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1b60f"/>
                </a:solidFill>
                <a:latin typeface="Arial"/>
              </a:rPr>
              <a:t>3</a:t>
            </a:r>
            <a:r>
              <a:rPr b="0" lang="ru-RU" sz="4200" spc="-1" strike="noStrike">
                <a:solidFill>
                  <a:srgbClr val="f1b60f"/>
                </a:solidFill>
                <a:latin typeface="Arial"/>
              </a:rPr>
              <a:t>. </a:t>
            </a:r>
            <a:r>
              <a:rPr b="1" lang="ru-RU" sz="3800" spc="-1" strike="noStrike">
                <a:solidFill>
                  <a:srgbClr val="f1b60f"/>
                </a:solidFill>
                <a:latin typeface="Arial"/>
              </a:rPr>
              <a:t>Требования безопасности</a:t>
            </a:r>
            <a:r>
              <a:rPr b="1" lang="ru-RU" sz="42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f1b60f"/>
                </a:solidFill>
                <a:latin typeface="Arial"/>
              </a:rPr>
              <a:t>во время работы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олнять только ту работу, по которой прошел инструктаж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поручать свою работу необученным лица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менять для работы исправное оборудование, инструм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OFF</cp:lastModifiedBy>
  <dcterms:modified xsi:type="dcterms:W3CDTF">2014-05-11T17:11:36Z</dcterms:modified>
  <cp:revision>7</cp:revision>
  <dc:subject/>
  <dc:title>PowerPoint Presentation</dc:title>
</cp:coreProperties>
</file>