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D8A06-9145-4FAA-A524-A852271C6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5231B-C950-4502-9B0E-C3BAD61E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10C01-FC17-446E-A4B4-29AA7330F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17EA7-F1F0-41E0-8057-6F7331B15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6A75-5AA7-4F95-86C3-B2B9E9A6A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B7D0-E10F-4220-80C8-0DA161BB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07CD-673D-45C0-B513-8F3C8562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6293-BAD2-4EB4-99DF-2885986B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87EE-9671-4890-B038-2C968082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BAB0-F186-46E1-B67A-A9766203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D750-1C62-449C-BAC3-A37B26F2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E02B1-7460-4AA8-9711-E26E43F8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1F2F-B6E0-4064-94DD-249B6F06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56AA-E3D4-4880-9814-E93E29EF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0902-CB17-447C-8639-B8B24FD4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4ECA-6192-494D-AA8A-D7B6C3D80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FC9E-6B4A-474E-99BA-8A795A350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C972B-F0BB-4B4A-BCD7-CE4F21B5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8E87A-CD08-47B0-A961-6896F067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620FD-CFF8-4DBC-AFB0-4DD9A705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AD64B-48B9-4C2B-9692-9A068F12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C9DD6-3C57-450A-8729-28E163C7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551B1-8B77-4873-BB5C-6402873E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707DB-2E72-410E-880E-290A4ADB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86E9-652E-420B-AC8D-92A6F3CB69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DA1F-81F8-4FBA-892B-98B8527AD7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71640" y="1844640"/>
            <a:ext cx="56865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Основные узлы электронных ККМ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9280" y="76500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ФП - это денежный счетчик</a:t>
            </a: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, который накапливает данные о выручке ККМ от смены к смене. Эти данные не могут быть обнулены, а могут быть только прочитаны (сняты) налоговым инспектором. ФП в виде платы помещается под пломбируемым кожухом кассовой машины. В случае заполнения емкости накопителя ФП ее заменяют на новую. Информация, накопленная в фискальной памяти, должна сохраняться в течение шести лет с момента фискализации кассовой машины, т. е. снятия с нее показа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Для контроля за доступом к фискальной памяти в составе блока ФП имеется контрольный счетчик «Фискальный» (Ф), который считает количество снятий показаний с накопителя ФП. Данные контрольного счетчика Ф так же, как и данные, накопленные в самой фискальной памяти, не обнуляются и доступны только налоговому инспекто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ханизм ключей и замков (МКЗ) предназначен для включения ККМ и перевода ее в, рабочие режимы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«Регистрация»</a:t>
            </a: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 - это рабочий режим кассира, в котором происходит обслуживание покупателей и печать кассовых че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«Показания»</a:t>
            </a: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 - получение Х-отчета без обнуления. Операция выполняется обязательно перед началом каждой рабочей смены или при необходимости в любое время работы кассовой маш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«Гашение»</a:t>
            </a: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 - получение Z-отчета с обнулением. Операция выполняется после окончания каждой рабочей см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«Фискализация»</a:t>
            </a: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 - получение данных с накопителя фискальной памяти. Операция выполняется только представителями налоговых служ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«Программирование»</a:t>
            </a: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 соответственно служит для программирования администратором (механиком) необходимых параметров при эксплуатации К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7d"/>
                </a:solidFill>
                <a:latin typeface="Arial"/>
              </a:rPr>
              <a:t>Контроль правильности алгоритма и информации</a:t>
            </a: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 – это встроенный в машинк механизм, который при ошибке оператора ККМ блокируется, при этом выдаются звуковой сигнал и сообщение на дисплее «Е - ОП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7d"/>
                </a:solidFill>
                <a:latin typeface="Arial"/>
              </a:rPr>
              <a:t>Наряду с вышеуказанными узлами ККМ имеет блок питания, блок сетевого фильтра, силовой трансформатор, денежный ящик, корпус, кожух и другие узлы и дета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 основным функциональным узлам кассовой машины относя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7d"/>
                </a:solidFill>
                <a:latin typeface="Arial"/>
              </a:rPr>
              <a:t>1. Блок клавиатуры (БК)</a:t>
            </a:r>
            <a:r>
              <a:rPr b="0" i="1" lang="en-US" sz="2000" spc="-1" strike="noStrike">
                <a:solidFill>
                  <a:srgbClr val="00007d"/>
                </a:solidFill>
                <a:latin typeface="Arial"/>
              </a:rPr>
              <a:t> служит для ввода различных операций программирования и управления работой кассовой машины. Клавишное поле ККМ имее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7d"/>
                </a:solidFill>
                <a:latin typeface="Arial"/>
              </a:rPr>
              <a:t>Цифровые клавиши</a:t>
            </a:r>
            <a:r>
              <a:rPr b="0" i="1" lang="en-US" sz="2000" spc="-1" strike="noStrike">
                <a:solidFill>
                  <a:srgbClr val="00007d"/>
                </a:solidFill>
                <a:latin typeface="Arial"/>
              </a:rPr>
              <a:t> служат для ввода любой цифровой информации: цены товара, суммы наличных денег покупателя, суммы возвратов, величины скидок (надбавок)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7d"/>
                </a:solidFill>
                <a:latin typeface="Arial"/>
              </a:rPr>
              <a:t>Секционные клавиши</a:t>
            </a:r>
            <a:r>
              <a:rPr b="0" i="1" lang="en-US" sz="2000" spc="-1" strike="noStrike">
                <a:solidFill>
                  <a:srgbClr val="00007d"/>
                </a:solidFill>
                <a:latin typeface="Arial"/>
              </a:rPr>
              <a:t> обеспечивают ввод набранной стоимости товара в соответствующий денежный счетчик отд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7d"/>
                </a:solidFill>
                <a:latin typeface="Arial"/>
              </a:rPr>
              <a:t>Функциональные клавиши</a:t>
            </a:r>
            <a:r>
              <a:rPr b="0" i="1" lang="en-US" sz="2000" spc="-1" strike="noStrike">
                <a:solidFill>
                  <a:srgbClr val="00007d"/>
                </a:solidFill>
                <a:latin typeface="Arial"/>
              </a:rPr>
              <a:t> служат для ввода запрограммированных (фиксированных) цен; аннулирования ошибочных записей на чеках и оформления возврата товаров; регистрации служебных сумм, принятых в кассу (вне продаж товаров) и выданных из кассы; регистрации оплаты покупок различными платежными средствами; проведения заключительных операций по печати чеков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8820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2.</a:t>
            </a: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 </a:t>
            </a:r>
            <a:r>
              <a:rPr b="1" i="1" lang="en-US" sz="3200" spc="-1" strike="noStrike">
                <a:solidFill>
                  <a:srgbClr val="00007d"/>
                </a:solidFill>
                <a:latin typeface="Arial"/>
              </a:rPr>
              <a:t>Блок индикации (дисплей)</a:t>
            </a: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 служит для показа вводимой в машину информации, визуального контроля результатов исчислений, а также для отражения режима работы ККМ и ее состояния в данный мо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7d"/>
                </a:solidFill>
                <a:latin typeface="Arial"/>
              </a:rPr>
              <a:t>3. Блок печати (принтер)</a:t>
            </a: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 предназначен для печати кассовых документов: чеков; контрольной ленты; отчетов с гашением (Z-отчет) и без гашения (Х-отче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896472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4.</a:t>
            </a: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Блок автоматической памяти (БАП)</a:t>
            </a: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 обеспечивает запись, переработку, хранение и выдачу введенной информации. Память машины представлена следующими узлами: оперативно-запоминающее устройство (ОЗУ); блок фискальной памяти (БФП) и репрограммиру-емое запоминающее устройство (РПЗ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ОЗУ</a:t>
            </a: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 предназначено для приема, переработки, хранения и выдачи всей оперативной информации, вводимой в ККМ в течение каждой рабочей смены. Устройство состоит из системы различных счетчиков, ведущих учет данных в суммовом и количественном выражении по различным направления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• </a:t>
            </a: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по секциям и в целом по кассовой маши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• </a:t>
            </a: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общей сумме проданного товара и по видам това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• </a:t>
            </a: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рабочим периодам (по сменам, по рабочим часам, а также по дням и месяцам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• </a:t>
            </a: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видам опера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• </a:t>
            </a: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кассирам и т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По функциональному назначению счетчики ОЗУ имеют денежные суммирующие, контрольные и операционные регист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Денежные суммирующие регистры</a:t>
            </a: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 могут быть двух видов: денежные, регистрирующие суммы, связанные с реализацией товаров и услуг; денежные, не связанные с реализацией товаров и услу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Кроме этих основных счетчиков, по которым определяется выручка по кассе за смену, в ККМ могут быть и другие, одновременно ведущие учет вводимых сумм отдельно по проведенным операциям. К ним относятся счетч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• </a:t>
            </a: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ведущие учет запрограммированных това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• </a:t>
            </a: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ведущие учет суммы торговых скидок и надбавок к ценам това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• </a:t>
            </a: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суммирующие возвращенные покупателям денежные сум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• </a:t>
            </a: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суммирующие аннулированные суммы (ошибочно отпечатанные суммы)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казания всех счетчиков, ведущих учет денежных сумм в течение каждой рабочей смены, снимаются обязательно дважды за рабочую смен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перед началом ее работы (в режиме X с выводом Х-отчет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 </a:t>
            </a: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после окончания работы (в режиме Z с выводом Z-отче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По показаниям счетчиков после окончания рабочей смены по Z-отчёту определяются итоги работы (выручка) по кассе и по каждому кассиру. Одновременно со снятием показаний счетчиков за прошедшую смену эти данные автоматически обнуля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им образом, подсчет выручки и других данных с начала смены начинается с «нуля» и показания сменных счетчиков на начало смены будут нулевыми. Обнуленные после окончания смены данные о выручке не исчезают, они переходят на главный суммирующий счетчик кассовой машины, в блок фискальной памяти К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896472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7d"/>
                </a:solidFill>
                <a:latin typeface="Arial"/>
              </a:rPr>
              <a:t>К контрольным относятся счетчики</a:t>
            </a:r>
            <a:r>
              <a:rPr b="0" i="1" lang="en-US" sz="2800" spc="-1" strike="noStrike">
                <a:solidFill>
                  <a:srgbClr val="00007d"/>
                </a:solidFill>
                <a:latin typeface="Arial"/>
              </a:rPr>
              <a:t> Х-показания и Z-гашения, которые служат для контроля за операциями, проводимыми с суммирующими денежными счетчи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7d"/>
                </a:solidFill>
                <a:latin typeface="Arial"/>
              </a:rPr>
              <a:t>Показания счетчиков X и Z</a:t>
            </a:r>
            <a:r>
              <a:rPr b="0" i="1" lang="en-US" sz="2800" spc="-1" strike="noStrike">
                <a:solidFill>
                  <a:srgbClr val="00007d"/>
                </a:solidFill>
                <a:latin typeface="Arial"/>
              </a:rPr>
              <a:t> будут печататься на соответствующих Х- и Z-отчетах и увеличиваются на единицу после каждого нового вывода соответствующего отчета. Емкость контрольных счетчиков -четыре разряда. После заполнения полной их емкости (9999) кассовая машина блокиру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аким образом, контрольные счетчики позволяют предупредить несанкционированный доступ к памяти ККМ и предотвратить злоупотребления с денежными суммами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перационные счетчики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регистрируют количество операций, производимых кассиром в своем рабочем режиме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перационные счетчики могут счит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• </a:t>
            </a: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количество напечатанных (оплаченных) чеков и покуп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• </a:t>
            </a: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число обслуженных покупа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• </a:t>
            </a: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массу проданного товара с запрограммированной цен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• </a:t>
            </a: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количество торговых скидок и надбав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• </a:t>
            </a: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количество возвратов денежных сумм покупателя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• </a:t>
            </a: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число аннулирований ошибочных записей на чек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• </a:t>
            </a: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количество оплат за наличный и безналичный расчеты, в том числе по видам опла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• </a:t>
            </a: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число операций по вводу (выводу) служебных сумм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енежные суммирующие, контрольные и операционные счетчи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являются счетчиками по приему, переработке и хранению оперативной информации, связанной с реализацией товаров. Показания указанных счетчиков изменяются каждую рабочую смену и служат основанием для выявления реальных данных о выручке кассовой машины и о произведенных операциях за смену. Все данные о выручке за рабочую смену, накопленные на суммирующих денежных счетчиках, после окончания каждой рабочей смены сбрасываются на главный суммирующий счетчик кассовой машины - на фискальную память (ФП)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12:56:56Z</dcterms:created>
  <dc:creator>Admin</dc:creator>
  <dc:description/>
  <dc:language>en-US</dc:language>
  <cp:lastModifiedBy>Laborato</cp:lastModifiedBy>
  <dcterms:modified xsi:type="dcterms:W3CDTF">2004-01-08T21:20:09Z</dcterms:modified>
  <cp:revision>3</cp:revision>
  <dc:subject/>
  <dc:title>Основные узлы электронных ККМ</dc:title>
</cp:coreProperties>
</file>