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8003838" cy="10799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B66-2431-44E3-84C7-09EE6A0D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31280"/>
            <a:ext cx="16202160" cy="180036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ctr">
            <a:noAutofit/>
          </a:bodyPr>
          <a:p>
            <a:pPr indent="0" algn="ctr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520720"/>
            <a:ext cx="1620216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6243840"/>
            <a:ext cx="1620216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E4B-E2ED-4EF9-B2C6-A38B2E54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31280"/>
            <a:ext cx="16202160" cy="180036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ctr">
            <a:noAutofit/>
          </a:bodyPr>
          <a:p>
            <a:pPr indent="0" algn="ctr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520720"/>
            <a:ext cx="790632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201960" y="2520720"/>
            <a:ext cx="790632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6243840"/>
            <a:ext cx="790632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201960" y="6243840"/>
            <a:ext cx="790632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26C4-E77C-489B-BDD0-28376858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31280"/>
            <a:ext cx="16202160" cy="180036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ctr">
            <a:noAutofit/>
          </a:bodyPr>
          <a:p>
            <a:pPr indent="0" algn="ctr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520720"/>
            <a:ext cx="521676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378120" y="2520720"/>
            <a:ext cx="521676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55880" y="2520720"/>
            <a:ext cx="521676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6243840"/>
            <a:ext cx="521676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378120" y="6243840"/>
            <a:ext cx="521676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855880" y="6243840"/>
            <a:ext cx="521676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0D5-FE7E-4670-8765-219FF05A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31280"/>
            <a:ext cx="16202160" cy="180036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ctr">
            <a:noAutofit/>
          </a:bodyPr>
          <a:p>
            <a:pPr indent="0" algn="ctr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520720"/>
            <a:ext cx="1620216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37E-2D09-47D3-B387-01D32973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31280"/>
            <a:ext cx="16202160" cy="180036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ctr">
            <a:noAutofit/>
          </a:bodyPr>
          <a:p>
            <a:pPr indent="0" algn="ctr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520720"/>
            <a:ext cx="16202160" cy="71276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294-6EE1-45EE-9D52-6EB8DC08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31280"/>
            <a:ext cx="16202160" cy="180036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ctr">
            <a:noAutofit/>
          </a:bodyPr>
          <a:p>
            <a:pPr indent="0" algn="ctr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520720"/>
            <a:ext cx="7906320" cy="71276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201960" y="2520720"/>
            <a:ext cx="7906320" cy="71276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08F-DA9E-4DA1-A609-A7F8D8FB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31280"/>
            <a:ext cx="16202160" cy="180036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ctr">
            <a:noAutofit/>
          </a:bodyPr>
          <a:p>
            <a:pPr indent="0" algn="ctr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F57-F830-4CA7-BA2A-C3D49332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31280"/>
            <a:ext cx="16202160" cy="83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5E4-68B5-4859-9427-999C21D9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31280"/>
            <a:ext cx="16202160" cy="180036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ctr">
            <a:noAutofit/>
          </a:bodyPr>
          <a:p>
            <a:pPr indent="0" algn="ctr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520720"/>
            <a:ext cx="790632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201960" y="2520720"/>
            <a:ext cx="7906320" cy="71276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6243840"/>
            <a:ext cx="790632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40B-FE50-440D-9890-14155C5C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31280"/>
            <a:ext cx="16202160" cy="180036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ctr">
            <a:noAutofit/>
          </a:bodyPr>
          <a:p>
            <a:pPr indent="0" algn="ctr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520720"/>
            <a:ext cx="7906320" cy="71276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201960" y="2520720"/>
            <a:ext cx="790632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201960" y="6243840"/>
            <a:ext cx="790632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24E-DFDB-43B2-AE6D-E5B735B1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31280"/>
            <a:ext cx="16202160" cy="180036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ctr">
            <a:noAutofit/>
          </a:bodyPr>
          <a:p>
            <a:pPr indent="0" algn="ctr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520720"/>
            <a:ext cx="790632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201960" y="2520720"/>
            <a:ext cx="790632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6243840"/>
            <a:ext cx="16202160" cy="33998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44C-19E0-4807-8091-3F608194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431280"/>
            <a:ext cx="16202160" cy="180036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ctr">
            <a:noAutofit/>
          </a:bodyPr>
          <a:p>
            <a:pPr indent="0" algn="ctr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r>
              <a:rPr b="0" lang="en-US" sz="7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520720"/>
            <a:ext cx="16202160" cy="712764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t">
            <a:normAutofit fontScale="95000"/>
          </a:bodyPr>
          <a:p>
            <a:pPr marL="585000" indent="-585000"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lvl="1" marL="1269720" indent="-488520">
              <a:spcBef>
                <a:spcPts val="1451"/>
              </a:spcBef>
              <a:buClr>
                <a:srgbClr val="000000"/>
              </a:buClr>
              <a:buFont typeface="Arial"/>
              <a:buChar char="–"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lvl="2" marL="1954440" indent="-390240">
              <a:spcBef>
                <a:spcPts val="1451"/>
              </a:spcBef>
              <a:buClr>
                <a:srgbClr val="000000"/>
              </a:buClr>
              <a:buFont typeface="Arial"/>
              <a:buChar char="•"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lvl="3" marL="2735640" indent="-390240">
              <a:spcBef>
                <a:spcPts val="1451"/>
              </a:spcBef>
              <a:buClr>
                <a:srgbClr val="000000"/>
              </a:buClr>
              <a:buFont typeface="Arial"/>
              <a:buChar char="–"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lvl="4" marL="3516480" indent="-390240">
              <a:spcBef>
                <a:spcPts val="1451"/>
              </a:spcBef>
              <a:buClr>
                <a:srgbClr val="000000"/>
              </a:buClr>
              <a:buFont typeface="Arial"/>
              <a:buChar char="»"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lvl="5" marL="3516480" indent="-390240">
              <a:spcBef>
                <a:spcPts val="1451"/>
              </a:spcBef>
              <a:buClr>
                <a:srgbClr val="000000"/>
              </a:buClr>
              <a:buFont typeface="Arial"/>
              <a:buChar char="»"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lvl="6" marL="3516480" indent="-390240">
              <a:spcBef>
                <a:spcPts val="1451"/>
              </a:spcBef>
              <a:buClr>
                <a:srgbClr val="000000"/>
              </a:buClr>
              <a:buFont typeface="Arial"/>
              <a:buChar char="»"/>
              <a:tabLst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00000" y="10010880"/>
            <a:ext cx="4200480" cy="57600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ctr">
            <a:noAutofit/>
          </a:bodyPr>
          <a:lstStyle>
            <a:lvl1pPr indent="0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  <a:defRPr b="0" lang="en-US" sz="2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51320" y="10010880"/>
            <a:ext cx="5700600" cy="57600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ctr">
            <a:noAutofit/>
          </a:bodyPr>
          <a:p>
            <a:pPr indent="0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901680" y="10010880"/>
            <a:ext cx="4200480" cy="57600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ctr">
            <a:noAutofit/>
          </a:bodyPr>
          <a:lstStyle>
            <a:lvl1pPr indent="0" algn="r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  <a:defRPr b="0" lang="en-US" sz="2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fld id="{95F202D5-2FDF-45D0-9FC7-7806D69C3871}" type="slidenum">
              <a:rPr b="0" lang="en-US" sz="2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0720" y="828360"/>
            <a:ext cx="15301800" cy="9072360"/>
          </a:xfrm>
          <a:prstGeom prst="rect">
            <a:avLst/>
          </a:prstGeom>
          <a:noFill/>
          <a:ln w="0">
            <a:noFill/>
          </a:ln>
        </p:spPr>
        <p:txBody>
          <a:bodyPr lIns="164520" rIns="164520" tIns="82440" bIns="82440" anchor="ctr">
            <a:noAutofit/>
          </a:bodyPr>
          <a:p>
            <a:pPr indent="0" algn="ctr">
              <a:buNone/>
              <a:tabLst>
                <a:tab algn="l" pos="0"/>
                <a:tab algn="l" pos="1644480"/>
                <a:tab algn="l" pos="3289320"/>
                <a:tab algn="l" pos="4933800"/>
                <a:tab algn="l" pos="6578640"/>
                <a:tab algn="l" pos="8223120"/>
                <a:tab algn="l" pos="9867960"/>
              </a:tabLst>
            </a:pPr>
            <a:r>
              <a:rPr b="1" lang="en-US" sz="12000" spc="-1" strike="noStrike">
                <a:solidFill>
                  <a:srgbClr val="215968"/>
                </a:solidFill>
                <a:latin typeface="Calibri"/>
              </a:rPr>
              <a:t>ОФОРМЛЕНИЕ РАСХОДНОГО КАССОВОГО ОРДЕРА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ject 2" descr=""/>
          <p:cNvPicPr/>
          <p:nvPr/>
        </p:nvPicPr>
        <p:blipFill>
          <a:blip r:embed="rId1"/>
          <a:stretch/>
        </p:blipFill>
        <p:spPr>
          <a:xfrm>
            <a:off x="1925640" y="252360"/>
            <a:ext cx="14493960" cy="104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1925640" y="252360"/>
            <a:ext cx="14493960" cy="106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ject 2" descr=""/>
          <p:cNvPicPr/>
          <p:nvPr/>
        </p:nvPicPr>
        <p:blipFill>
          <a:blip r:embed="rId1"/>
          <a:stretch/>
        </p:blipFill>
        <p:spPr>
          <a:xfrm>
            <a:off x="1925640" y="252360"/>
            <a:ext cx="14493960" cy="10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2" descr=""/>
          <p:cNvPicPr/>
          <p:nvPr/>
        </p:nvPicPr>
        <p:blipFill>
          <a:blip r:embed="rId1"/>
          <a:stretch/>
        </p:blipFill>
        <p:spPr>
          <a:xfrm>
            <a:off x="1925640" y="252360"/>
            <a:ext cx="14493960" cy="1083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1925640" y="252360"/>
            <a:ext cx="14493960" cy="1077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1"/>
          <a:stretch/>
        </p:blipFill>
        <p:spPr>
          <a:xfrm>
            <a:off x="1925640" y="252360"/>
            <a:ext cx="14493960" cy="1077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2217600" y="0"/>
            <a:ext cx="13444560" cy="1021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3" descr=""/>
          <p:cNvPicPr/>
          <p:nvPr/>
        </p:nvPicPr>
        <p:blipFill>
          <a:blip r:embed="rId1"/>
          <a:stretch/>
        </p:blipFill>
        <p:spPr>
          <a:xfrm>
            <a:off x="1925640" y="252360"/>
            <a:ext cx="14493960" cy="1019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1925640" y="252360"/>
            <a:ext cx="14493960" cy="1019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ject 2" descr=""/>
          <p:cNvPicPr/>
          <p:nvPr/>
        </p:nvPicPr>
        <p:blipFill>
          <a:blip r:embed="rId1"/>
          <a:stretch/>
        </p:blipFill>
        <p:spPr>
          <a:xfrm>
            <a:off x="1925640" y="252360"/>
            <a:ext cx="14493960" cy="10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ject 2" descr=""/>
          <p:cNvPicPr/>
          <p:nvPr/>
        </p:nvPicPr>
        <p:blipFill>
          <a:blip r:embed="rId1"/>
          <a:stretch/>
        </p:blipFill>
        <p:spPr>
          <a:xfrm>
            <a:off x="1925640" y="252360"/>
            <a:ext cx="14493960" cy="103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ject 2" descr=""/>
          <p:cNvPicPr/>
          <p:nvPr/>
        </p:nvPicPr>
        <p:blipFill>
          <a:blip r:embed="rId1"/>
          <a:stretch/>
        </p:blipFill>
        <p:spPr>
          <a:xfrm>
            <a:off x="1925640" y="252360"/>
            <a:ext cx="14493960" cy="10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bject 2" descr=""/>
          <p:cNvPicPr/>
          <p:nvPr/>
        </p:nvPicPr>
        <p:blipFill>
          <a:blip r:embed="rId1"/>
          <a:stretch/>
        </p:blipFill>
        <p:spPr>
          <a:xfrm>
            <a:off x="1925640" y="252360"/>
            <a:ext cx="14493960" cy="104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2" descr=""/>
          <p:cNvPicPr/>
          <p:nvPr/>
        </p:nvPicPr>
        <p:blipFill>
          <a:blip r:embed="rId1"/>
          <a:stretch/>
        </p:blipFill>
        <p:spPr>
          <a:xfrm>
            <a:off x="1925640" y="252360"/>
            <a:ext cx="14493960" cy="104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2" descr=""/>
          <p:cNvPicPr/>
          <p:nvPr/>
        </p:nvPicPr>
        <p:blipFill>
          <a:blip r:embed="rId1"/>
          <a:stretch/>
        </p:blipFill>
        <p:spPr>
          <a:xfrm>
            <a:off x="1925640" y="252360"/>
            <a:ext cx="14493960" cy="105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08:32:17Z</dcterms:created>
  <dc:creator>Prepod218</dc:creator>
  <dc:description/>
  <dc:language>en-US</dc:language>
  <cp:lastModifiedBy>Laborato</cp:lastModifiedBy>
  <dcterms:modified xsi:type="dcterms:W3CDTF">2004-01-08T23:47:26Z</dcterms:modified>
  <cp:revision>17</cp:revision>
  <dc:subject/>
  <dc:title>Слайд 1</dc:title>
</cp:coreProperties>
</file>