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F6E-4225-462A-9D0C-E34CB8CF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30B-CC9B-40AA-B394-A7BEF1EE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DC2-0579-4147-B3DA-4804F84B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BEC-9381-4736-9E34-54628719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5B81-BEC5-4EBD-AADA-28D48C4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2C2C-6082-4F25-8024-509A3D2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2DE-F6A4-4CD8-81B6-3AC19A1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1823-F131-4050-A194-EEFEACEB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13D-ABD0-48B0-BFEE-87A76891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4866-5B7E-4635-9644-35A59B16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798-F2E1-4E2B-B3A9-A19897E1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964-E8BF-4443-9A9D-1A6DEE28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57E-78A0-42EB-97C7-C1DC1B5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8CD-FA9A-4F83-81C3-843B0EA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0B9-3922-4D0E-B4C4-784E411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CCD-9FE3-4D62-89C6-EBEE183A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301-5596-4C10-AA40-62EF148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AAF-BB17-42ED-B92D-BFCB6090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77D-78F6-4B2D-8562-D1ECE34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078-973B-49AF-B84C-C051213C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13A-DCCF-4CF9-9474-C6432D6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A3A2-647B-4189-B3FF-73A8E28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839-792C-49A8-A281-3057DF9C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C62-A544-44E6-B06D-8A9ABBFB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7F34-9F30-4B4E-971C-CFE592D932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BF2-260D-4D40-886C-9D44D52A29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05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ККМ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«Меркурий 180К»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49636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ечатающее устройст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ижимной валик печатающего устройства у Меркурий-180К находится на верхней крышке, для мотка термоленты не требуются боковые зажимы. Процесс замены чековой ленты упрощен до минимума – кассиру достаточно правильно положить валик в отсек, закрыть крышку и продолжать работу!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7931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авиату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Кассовый аппарат Меркурий-180К поставляется с резиновой кнопочной клавиатурой, внешне напоминающей клавиатуру калькулятора. Звуковой сигнал подтверждает нажатие клавиш.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лгоритм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Для входа в режим пробития чеков требуется набрать пароль кассира : 1000000. Меню кассового аппарата работает на русском языке. Поскольку количество символов на дисплее ограничено, то на ККМ выходят следующие сообщения: «ОСГ» - означает «Отчет с гашением», а «ОБГ» - «Отчет без гашения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137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полнительные устрой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Для ККМ Меркурий-180К, производители предусмотрели порт RS232 для подключения к компьютеру, а также для использования сканера штрих-кода или дисплея покупателя. 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ри некоторой доработке, кассовый аппарат Меркурий 180К может быть переделан в ручной терминал по приему платежей (в том числе за мобильную связь), а порт стал использоваться для подключения GPRS-антенны. 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0:58:06Z</dcterms:created>
  <dc:creator>Admin</dc:creator>
  <dc:description/>
  <dc:language>en-US</dc:language>
  <cp:lastModifiedBy>Admin</cp:lastModifiedBy>
  <dcterms:modified xsi:type="dcterms:W3CDTF">2011-10-18T11:01:27Z</dcterms:modified>
  <cp:revision>1</cp:revision>
  <dc:subject/>
  <dc:title>ККМ  «Меркурий 180К»</dc:title>
</cp:coreProperties>
</file>