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1D42C-C2B0-4EF4-B332-A25E6202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AFD49-D945-42CA-80A7-8F7A64A0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CC9A-0654-4E5B-8C96-544764E9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D460-4070-4C5A-BA7D-F49D320A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8B47-320A-4366-868E-F9E56B36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010D-D6DC-4892-99BF-E5C2F930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1E5F-99E1-4B45-A3B1-A4AE1E50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E6B1-2817-4A00-BAC6-7CE97D49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C905-5AB3-4A14-BBFF-3DDD790F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E19D-25B5-4464-B81A-9D8E34EA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A457-B80B-4D4A-92D4-06292587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251B-DE1B-4990-992E-D29ED29D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8690-97AB-458A-81D8-F208AEA7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4853-389E-4F14-A637-565DB3F5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0FD2-9E33-4026-A11C-63D7673A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1B99-467C-4CC5-957F-149790D8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9EA9-B1AF-4F49-BF17-59E7F7B4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7140-43A0-4BE6-814F-2FBF2CC0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054A-1935-4D2A-8615-F84C2BE1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3E98-84D4-4D57-AF13-E841B9E7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C18A6-A71E-4DB6-B79F-E2C4AC70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F012-F728-4C81-80AC-37B5B384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534B-FB5A-4031-AE65-476E742E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584D-31D6-4C9F-AB3D-47A76CD4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2E8A-C9F7-4809-8403-DDB19D78E1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811D-17AE-4461-BDCA-0AE9FFBFE7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557360"/>
            <a:ext cx="65530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ЛАССИФИКАЦИЯ КОНТРОЛЬНО – КАССОВЫХ МАШИН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т денег, поступающих на предприятия торговли, и расчеты с покупателями осуществляют с применением контрольно-кассовых машин (ККМ). Использование ККМ в торговле обеспечива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точный учет денежной выруч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высокую производительность труда работников предпри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сокращение до минимума ошибок при расчетах за това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улучшение санитарно-гигиенических условий при продаже продовольственных това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00007d"/>
                </a:solidFill>
                <a:latin typeface="Arial"/>
              </a:rPr>
              <a:t>повышение культуры торгового обслуживания и сокращение времени покупателей на расчеты за тов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В настоящее время ККМ представляют собой большой класс оборудования одного функционального назначения, отличающегося друг от друга функциональными возможностями и условиями их применения. Значительное число разрешенных к эксплуатации ККМ Требует их систематизации, т. е. объединения в группы по характерны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За основу классификации ККМ принимается Классификатор контрольно-кассовых машин, используемых на территории Российской Федерации, утвержденный Государственной межведомственной экспертной комиссией (ГМЭ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686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гласно классификатору ККМ по области применения делятся на четыре подклас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для торговых организа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для сферы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для торговли нефтепродукт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для отелей и рестор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ссификация контрольно-кассов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машин в торговл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Автономная ККМ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- кассовая машина, расширение функциональных возможностей которой может достигаться только за счет подключения дополнительных устройств ввода-вывода, управляемых по размещенным в ней програм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К автономным ККМ относятся и портативные кассовые машины, имеющие возможность работать без постоянного подключения к электро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Пассивная системная ККМ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- кассовая машина, имеющая возможность работать в компьютерно-кассовой системе, но не имеющая возможности управлять работой эт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Пассивная системная ККМ может использоваться и как автономная кассовая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7640" y="69228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Активная системная ККМ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- кассовая машина, имеющая возможность работать в компьютерно-кассовой системе, управляя при этом работой системы. К активной системной ККМ относится также POS-терминал - кассовая машина с фискальной памятью, обладающая возможностями персонального компьютера по вводу-выводу, хранению, обработке и отображению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Активная системная ККМ может использоваться и как пассивная системная или автономная кассовая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Фискальный регистратор (ФР)</a:t>
            </a:r>
            <a:r>
              <a:rPr b="0" i="1" lang="ru-RU" sz="2400" spc="-1" strike="noStrike">
                <a:solidFill>
                  <a:srgbClr val="00007d"/>
                </a:solidFill>
                <a:latin typeface="Arial"/>
              </a:rPr>
              <a:t> - кассовая машина, способная работать только в составе компьютерно-кассовой системы, получая данные через канал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ООТВЕТСТВИИ С КОНСТРУКТИВНЫМИ ОСОБЕННОСТЯМИ И ФУНКЦИОНАЛЬНЫМИ ВОЗМОЖНОСТЯМИ ККМ ДЛЯ ТОРГОВЫХ ПРЕДПРИЯТИЙ И ОРГАНИЗАЦИЙ КЛАССИФИЦИРУЮТСЯ ПО СЛЕДУЮЩИМ ПРИЗНАК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ПО КОНСТРУКЦИИ: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 АВТОНОМНЫЕ, ПАССИВНЫЕ, А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ПО ВОЗМОЖНОСТИ ПОДКЛЮЧЕНИЯ: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 К КОМПЬЮТЕРУ, К ЭЛЕКТРОННЫМ ВЕСАМ, ДЛЯ СЧИТЫВАНИЯ ПЛАТЕЖ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ВИДУ ПИТАНИЯ: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 ОТ СЕТИ ПЕРЕМЕННОГО ТОКА, ОТ ВСТРОЕННОЙ АККУМУЛЯТОРНОЙ БАТАР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СПОСОБУ ФОРМИРОВАНИЯ ОТЧЕТНЫХ ДОКУМЕНТОВ: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 НА ККМ КАССИРОВ, СЕКЦИЙ, ВИДОВ ТОВАРОВ, ПОЧАСОВОЙ ОТЧЕТНОСТИ, Х – ОТЧЕТОВ, СМЕННЫХ ОТЧЕТОВ – ГАШЕНИЙ, ФИСКАЛЬНЫХ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ВИДУ ВКЛЮЧЕНИЯ:</a:t>
            </a:r>
            <a:r>
              <a:rPr b="0" i="1" lang="en-US" sz="2400" spc="-1" strike="noStrike">
                <a:solidFill>
                  <a:srgbClr val="00007d"/>
                </a:solidFill>
                <a:latin typeface="Arial"/>
              </a:rPr>
              <a:t> С ПОМОЩЬЮ КЛЮЧЕЙ, С ПОМОЩЬЮ ВВОДА ПАР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30:21Z</dcterms:created>
  <dc:creator>Admin</dc:creator>
  <dc:description/>
  <dc:language>en-US</dc:language>
  <cp:lastModifiedBy>Laborato</cp:lastModifiedBy>
  <dcterms:modified xsi:type="dcterms:W3CDTF">2004-01-08T18:09:50Z</dcterms:modified>
  <cp:revision>4</cp:revision>
  <dc:subject/>
  <dc:title>КЛАССИФИКАЦИЯ КОНТРОЛЬНО – КАССОВЫХ МАШИН</dc:title>
</cp:coreProperties>
</file>